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D7D9-315B-407D-B9EB-388E6B7A167B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37400" y="16668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三草酸合铁</a:t>
            </a:r>
            <a:r>
              <a:rPr b="1" i="1" lang="en-US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(III)</a:t>
            </a: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酸钾的制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520" y="228240"/>
            <a:ext cx="72392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457E-E92B-4270-9260-86870E713B57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87D-7476-485D-B10B-6ED1136A9765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166680"/>
            <a:ext cx="20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三草酸合铁</a:t>
            </a:r>
            <a:r>
              <a:rPr b="1" i="1" lang="en-US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(III)</a:t>
            </a: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酸钾的制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0102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草酸合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酸钾的制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97180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C36D5A-3177-4F4E-B3AE-3F4EF9C138A2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7240"/>
            <a:ext cx="822960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物的定性鉴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鉴定（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鉴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两支试管，一支加入少量产品并用去离子水溶解，另一支加入少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两支试管中各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SC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观察实验现象。在装有产物溶液的试管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观察溶液颜色有何变化，解释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鉴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两支试管，一支加入少量产品并用去离子水溶解，另一支加入少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两支试管中各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观察实验现象。在装有产物溶液的试管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观察溶液颜色有何变化，解释原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8640" y="687240"/>
            <a:ext cx="83836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产品外观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e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·3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质量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产率计算：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氧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为什么温度不能超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备配合物时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为什么要煮沸溶液？煮沸时间过长有何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加入乙醇的作用是什么？不加入乙醇可否用浓缩蒸干的方法来制得晶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4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三草酸合铁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III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酸钾的制备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掌握合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[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·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基本原理和操作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掌握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测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原理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综合训练无机合成、滴定分析基本操作，掌握确定配合物组成的原理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草酸合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酸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[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·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翠绿色的单斜晶体，易溶于水（溶解度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7g/100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7.7g/100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难溶于乙醇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可失去全部结晶水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分解。此配合物对光敏感，受光照射分解变为黄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4572000"/>
          <a:ext cx="761976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572000"/>
                    <a:ext cx="76197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实验以硫酸亚铁铵为原料，与草酸在酸性溶液中先制得草酸亚铁沉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(S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·6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Fe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·2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(s) + (N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后在草酸钾和草酸的存在下，以过氧化氢为氧化剂，将草酸亚铁氧化为三草酸合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酸钾配合物。同时有氢氧化铁生成，反应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 Fe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·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+ 3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Fe(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+ 2 Fe(OH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入适量草酸可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化为三草酸合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酸钾，反应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Fe(OH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3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== 2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Fe(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+ 6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入乙醇放置，便可析出绿色的晶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物的定性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物组成的定性分析采用化学分析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中性或稀醋酸介质中，生成亮黄色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[Co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[Co(N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==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[Co(N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与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SC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应生成血红色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Fe(NCS)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与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应生成白色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上述离子反应可以判断它们处于配合物的内界还是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草酸合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Ⅲ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酸钾的制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草酸亚铁的制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酸亚铁铵固体放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烧杯中，然后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离子水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加热溶解后，再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饱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加热搅拌至沸，保持微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防止飞溅。停止加热，静置。待黄色晶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后，倾析法弃去上层清液。洗涤沉淀三次，每次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离子水，搅拌并温热，静置，弃去上层清液，即得黄色沉淀草酸亚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三草酸合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Ⅲ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酸钾的制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草酸亚铁沉淀中，加入饱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水浴加热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恒温下慢慢滴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边加边搅拌，沉淀转为深棕色，加完后将溶液加热至沸除去过量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趁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饱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沉淀完全溶解，溶液转为绿色。冷却后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在暗处放置，烧杯底部有晶体析出。为了加快结晶速度，可往其中滴加几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。晶体完全析出后，减压过滤，用少量乙醇洗涤产品，继续抽干混合液。用滤纸吸干，称重，计算产率，并将晶体放在干燥器内避光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1T13:12:46Z</dcterms:modified>
  <cp:revision>26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