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838E-65C2-4FD0-8530-C2AB959B2AB3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0" y="152280"/>
            <a:ext cx="18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卤素、氧、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520" y="228240"/>
            <a:ext cx="7086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2663-FD06-4AF2-A704-AA013B27865A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31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2720-26E0-41EA-98F2-BD011BAA1E5E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97440" y="152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卤素、氧、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1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2515680"/>
            <a:ext cx="701028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卤素、氧、硫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1.03 ~ 2011.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F4466FF-61C7-4DE2-AE5B-E668BE7ADBBC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M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5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8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==== 2MnO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10 S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16H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== 2 S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 === 3 S↓+ 3 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=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2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=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S↓+ S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↑+ 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Br + 2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= [Ag(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B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实验内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卤素单质及其化合物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溴和碘的溶解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溴和碘在水中的溶解性 取两支试管，各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，在第一支试管中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溴水，另一支试管中加一小粒碘，振荡试管，观察现象，记录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溴碘在有机溶剂中的溶解性 往以上两支试管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振荡试管，记录水层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层颜色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较两个实验，对溴碘的溶解性予以解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卤素单质的氧化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一支试管，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B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，再滴加氯水，边加边振荡，观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层的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做同样的实验，观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层的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一支试管，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，再滴加溴水，边加边振荡，观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层的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以上实验结果，比较卤素单质氧化性的相对强弱及其置换次序，写出有关的反应方程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卤素离子的还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三支试管中分别加入少量固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然后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观察试管中颜色的变化，同时分别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纸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淀粉试纸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Ac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纸检验所产生的气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实验结果，比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还原性，写出反应方程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卤素含氧酸盐的氧化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528480">
              <a:spcBef>
                <a:spcPts val="799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氯酸盐的氧化性（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528480">
              <a:spcBef>
                <a:spcPts val="799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氯酸盐的氧化性 （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氧和硫化合物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2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2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一支试管，加入适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2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体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蒸馏水，振荡使其溶解，放在冷水中冷却，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纸检验溶液的酸碱性。在往试管中滴加已用冰水冷却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ol·L-1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溶液呈弱酸性为止，即得过氧化氢溶液（保留此溶液供后面实验使用）。写出反应方程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2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氧化还原性（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2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鉴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试管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自制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2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ol·L-1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管乙醚，再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5mol·L-1K2Cr2O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充分振荡。观察乙醚层和水层颜色的变化，并予以解释。此反应也可用来检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42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2O72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硫化物的溶解性（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纸检验饱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2SO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酸碱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漂白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品红溶液，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蒸馏水稀释，然后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饱和溶液，观察品红溶液是否褪色？加热后又有何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上实验说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有什么性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硫的含氧酸盐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亚硫酸盐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mol·L-1KMn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ol·L-1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酸化，逐滴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mol·L-1Na2S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溶液颜色有何变化。写出反应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硫代乙酰胺溶液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2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饱和溶液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，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ol·L-1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-1 Na2S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水浴加热，观察现象，写出反应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硫代硫酸钠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-1Na2S2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，滴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mol·L-1HC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静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，观察现象。写出反应方程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碘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，滴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-1Na2S2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观察溶液颜色有何变化，写出反应方程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-1AgN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mol·L-1NaS2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边加边振荡试管，有何现象？写出反应方程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颠倒上述实验中加入试剂的顺序，即先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mol·L-1Na2S2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再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mol·L-1AgN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边加边振荡试管，现象有何不同？为什么？写出反应方程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15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卤素、氧、硫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实验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二硫酸盐的氧化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2mol·L-1Mn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ol·L-1H2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蒸馏水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，加入少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2S2O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体，微热，观察溶液颜色有何变化？再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ol·L-1AgN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颜色有何变化？写出有关的反应方程式。并说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N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综合以上实验说明亚硫酸钠、硫代硫酸钠、过二硫酸盐各具有什么性质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思考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从含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溶液中取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而又能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Br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中取代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二者有无矛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试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通过实验验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2O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有氧化性又有还原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四瓶未知液，它们分别含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试用金属硫化物的性质来鉴别它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验室如何保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2O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为防止其分解常加入什么物质作稳定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硫化氢是一种神经毒剂。在进行有硫化氢实验时注意通风（或在通风厨中进行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实验时常用硫代乙酰胺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3CSNH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简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来替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4)2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为金属离子的沉淀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硫代乙酰胺的水解速率随温度升高而加快，反应一般在沸水浴中进行。在碱性溶液中其水解速率较在酸性溶液中为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使用滴瓶时应注意滴管为每一试剂瓶专用，不要张冠李戴，更不允许拿其它物品取用试剂，严防试剂污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溴碘的溶解性，了解卤素单质的氧化性，卤素离子的还原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卤素含氧酸盐（次氯酸、氯酸）的氧化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过氧化氢的不稳定性、氧化还原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硫化氢、硫化物、硫的含氧酸盐（亚硫酸盐、硫代硫酸盐、过二硫酸盐）的性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卤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卤素的价电子构型是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除氟外，氯、溴、碘均可呈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7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氧化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卤素单质熔点、沸点依次升高。在通常情况下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浅黄色气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黄绿色气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红棕色液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紫黑色晶体。氯水为淡黄色（几乎无色），溴和碘的水溶液颜色与浓度有关；溴水颜色从淡黄色至棕红色，碘在水中溶解度很小，易溶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呈黄至红棕色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有机溶剂中的溶解度较大，最典型的是它们溶解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，分别呈现棕黄色和紫红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氧化还原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卤素单质的氧化能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卤素离子的还原能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卤素单质与水发生置换反应和歧化反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X2 + 2 H2O === 4 HX + O2↑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= 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2 + H2O === HX + HXO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= C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的递变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523880" y="1527840"/>
            <a:ext cx="5943240" cy="2172600"/>
            <a:chOff x="1523880" y="1527840"/>
            <a:chExt cx="5943240" cy="2172600"/>
          </a:xfrm>
        </p:grpSpPr>
        <p:sp>
          <p:nvSpPr>
            <p:cNvPr id="170" name=""/>
            <p:cNvSpPr/>
            <p:nvPr/>
          </p:nvSpPr>
          <p:spPr>
            <a:xfrm>
              <a:off x="1833480" y="2400840"/>
              <a:ext cx="53650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F             HCl             HBr             H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880" y="2206800"/>
              <a:ext cx="5901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75520" y="1527840"/>
              <a:ext cx="536508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酸性、熔沸点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例外）、还原性增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33480" y="3234960"/>
              <a:ext cx="53650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键能、稳定性增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65640" y="3021480"/>
              <a:ext cx="5901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253880" y="3885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如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3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38120" y="4267080"/>
            <a:ext cx="3102120" cy="1295280"/>
            <a:chOff x="2238120" y="4267080"/>
            <a:chExt cx="3102120" cy="1295280"/>
          </a:xfrm>
        </p:grpSpPr>
        <p:sp>
          <p:nvSpPr>
            <p:cNvPr id="178" name=""/>
            <p:cNvSpPr/>
            <p:nvPr/>
          </p:nvSpPr>
          <p:spPr>
            <a:xfrm>
              <a:off x="2238120" y="457092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819520" y="4267080"/>
              <a:ext cx="2057400" cy="1295280"/>
              <a:chOff x="2819520" y="4267080"/>
              <a:chExt cx="2057400" cy="1295280"/>
            </a:xfrm>
          </p:grpSpPr>
          <p:sp>
            <p:nvSpPr>
              <p:cNvPr id="180" name=""/>
              <p:cNvSpPr/>
              <p:nvPr/>
            </p:nvSpPr>
            <p:spPr>
              <a:xfrm>
                <a:off x="2819520" y="4267080"/>
                <a:ext cx="2005920" cy="47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+ 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， 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71000" y="5091480"/>
                <a:ext cx="2005920" cy="47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或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82" name=""/>
            <p:cNvGraphicFramePr/>
            <p:nvPr/>
          </p:nvGraphicFramePr>
          <p:xfrm>
            <a:off x="2666880" y="4724280"/>
            <a:ext cx="2286000" cy="154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666880" y="4724280"/>
                      <a:ext cx="228600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4737240" y="4577400"/>
              <a:ext cx="60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含氧酸及其盐的性质递变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219320" y="1676520"/>
            <a:ext cx="6546240" cy="2666880"/>
            <a:chOff x="1219320" y="1676520"/>
            <a:chExt cx="6546240" cy="2666880"/>
          </a:xfrm>
        </p:grpSpPr>
        <p:sp>
          <p:nvSpPr>
            <p:cNvPr id="188" name=""/>
            <p:cNvSpPr/>
            <p:nvPr/>
          </p:nvSpPr>
          <p:spPr>
            <a:xfrm>
              <a:off x="2247840" y="2666880"/>
              <a:ext cx="0" cy="13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219320" y="1676520"/>
              <a:ext cx="6546240" cy="2666880"/>
              <a:chOff x="1219320" y="1676520"/>
              <a:chExt cx="6546240" cy="2666880"/>
            </a:xfrm>
          </p:grpSpPr>
          <p:sp>
            <p:nvSpPr>
              <p:cNvPr id="190" name=""/>
              <p:cNvSpPr/>
              <p:nvPr/>
            </p:nvSpPr>
            <p:spPr>
              <a:xfrm>
                <a:off x="1822320" y="1676520"/>
                <a:ext cx="460440" cy="23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1219320" y="1828800"/>
                <a:ext cx="6546240" cy="2514600"/>
                <a:chOff x="1219320" y="1828800"/>
                <a:chExt cx="6546240" cy="25146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361960" y="2806560"/>
                  <a:ext cx="5403600" cy="14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HClO     HClO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    HClO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     HClO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ClO     KClO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    KClO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     KClO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438280" y="2209680"/>
                  <a:ext cx="48398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酸性、热稳定性（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HClO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例外）增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255760" y="2657520"/>
                  <a:ext cx="52873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438280" y="1828800"/>
                  <a:ext cx="4598640" cy="39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氧化能力（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HClO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例外）减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19320" y="2424240"/>
                  <a:ext cx="918720" cy="191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氧化能力减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热稳定性增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氧、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氧族元素的价电子构型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常见氧化态为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氧化氢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俗称双氧水。市售试剂是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的水溶液，医疗上消毒用的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子中有一个过氧链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—O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故呈现较强氧化性，是应用最广的氧化剂之一。在一定条件下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也表现出还原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硫化氢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一种无色、有毒、有臭鸡蛋气味的气体，其相应的盐是硫化物，由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半径较大，其变形性大，与重金属离子结合为硫化物时，其化学键显共价性，难溶于水，且具有不同的颜色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硫的含氧酸及其氧化还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硫的元素电势图可知，在酸性溶液中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含有过氧键，因此它是很强的氧化剂。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强的还原剂和弱的氧化剂。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一个中等强度的还原剂，在强酸性溶液中，立即分解。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具有很强的配合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001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cp:keywords/>
  <dc:language>en-US</dc:language>
  <cp:lastModifiedBy>user</cp:lastModifiedBy>
  <dcterms:modified xsi:type="dcterms:W3CDTF">2011-02-21T14:14:02Z</dcterms:modified>
  <cp:revision>25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