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7640" indent="528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6C7E-6B25-4965-8A60-B49A0BAC19FD}" type="slidenum">
              <a:rPr b="0" lang="en-US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89320" y="152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摩尔气体常数的测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889320" y="152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气体摩尔常数的测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546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0" y="251460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2286000" y="3504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2"/>
          </p:nvPr>
        </p:nvSpPr>
        <p:spPr>
          <a:xfrm>
            <a:off x="228600" y="640044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8A3D-7974-40FB-BF73-EE663909CF9C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6400800"/>
            <a:ext cx="3810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</a:rPr>
              <a:t>实验中心网站：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hx.jluzh.com/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5079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3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7AE4-5BF5-4AD6-81BA-B66BF86D1AE0}" type="slidenum">
              <a:rPr b="0" lang="en-US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89320" y="152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氧化还原和电极电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6477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b6767"/>
                </a:solidFill>
                <a:latin typeface="Arial"/>
                <a:ea typeface="楷体"/>
              </a:rPr>
              <a:t>自定义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300,4,&#24187;&#28783;&#29255; 4" TargetMode="External"/><Relationship Id="rId3" Type="http://schemas.openxmlformats.org/officeDocument/2006/relationships/hyperlink" Target="305,7,&#24187;&#28783;&#29255; 7" TargetMode="External"/><Relationship Id="rId4" Type="http://schemas.openxmlformats.org/officeDocument/2006/relationships/hyperlink" Target="310,12,&#24187;&#28783;&#29255; 12" TargetMode="External"/><Relationship Id="rId5" Type="http://schemas.openxmlformats.org/officeDocument/2006/relationships/hyperlink" Target="319,16,&#24187;&#28783;&#29255; 16" TargetMode="External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7400" y="2514600"/>
            <a:ext cx="5029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摩尔气体常数的测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895480" y="33526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010.10 ~ 2010.1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31F1ED9-3A6B-4C5F-87FE-F0700AF022F9}" type="datetime3">
              <a:rPr lang="en-US"/>
              <a:t>July 31, 2026</a:t>
            </a:fld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7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测量氢气体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下试管，调整漏斗的高度，使量气管中水面略低于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刻度。用量筒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ol·L-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2SO4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倒入试管中。将镁条沾少量水后贴在没沾酸的试管内壁的上部，将试管安装好。检验气密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移动漏斗使漏斗中液面和量气管液面在同一水平面位置，记录液面位置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左手将试管底部略微抬高，使镁条进入酸中。右手拿着漏斗随同量气管水面下降，保持量气管中水面与漏斗中水面在同一水平面位置，量气管受的压力和外界大气压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7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反应结束后，保持漏斗液面和量气管液面处在同一水平面上。待反应管冷却至室温，过一段时间记下量气管液面高度，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~2 mi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记录液面位置，直至两次读数一致记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即表面馆内气体温度与室温相同。记下室温和大气压数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下反应管，更换镁条重复实验二次，如实验结果误差较大，经指导教师同意可再重复实验一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686880"/>
            <a:ext cx="838368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数据记录及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实验数据记录     室温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℃   大气压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0880" y="2362320"/>
          <a:ext cx="8381880" cy="2738160"/>
        </p:xfrm>
        <a:graphic>
          <a:graphicData uri="http://schemas.openxmlformats.org/drawingml/2006/table">
            <a:tbl>
              <a:tblPr/>
              <a:tblGrid>
                <a:gridCol w="3795840"/>
                <a:gridCol w="1630080"/>
                <a:gridCol w="1654200"/>
                <a:gridCol w="1301760"/>
              </a:tblGrid>
              <a:tr h="617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镁条的质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应前量气管中水面读数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应后量气管中水面读数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7200" y="37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42840" y="5226120"/>
            <a:ext cx="23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注：量气管读数精确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1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7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2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验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2133720"/>
          <a:ext cx="7848720" cy="3328920"/>
        </p:xfrm>
        <a:graphic>
          <a:graphicData uri="http://schemas.openxmlformats.org/drawingml/2006/table">
            <a:tbl>
              <a:tblPr/>
              <a:tblGrid>
                <a:gridCol w="3013200"/>
                <a:gridCol w="1620720"/>
                <a:gridCol w="1620720"/>
                <a:gridCol w="15940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氢气体积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室温时水的饱和蒸汽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氢气分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氢气的物质的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摩尔气体常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/ J·mo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-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K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-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 J·mo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-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K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-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对误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371600" y="4648320"/>
            <a:ext cx="22860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7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、思考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如何检测本实验体系是否漏气？其根据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取量气管内气体体积时，为何要使量气管和液面调节管中的液面保持同一水平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现象对实验结果有无影响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528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有擦净镁条上的氧化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528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有赶净量气管中的气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528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量气管压入漏斗的水过多而溢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528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测定气体常数的装置漏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7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注意事项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关键问题是：镁条氧化膜要除净，镁条的质量称量要准，插入镁条前避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2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混合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镁条质量控制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.030~0.040 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间，太重，产生气体过多，以免量筒装不了；太少，则产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量少，误差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摩尔气体常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单位换算关系：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 J·mol1·K1 = 1 kPa·dm3·mol1·K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反应停止，反应管冷却到室温后，记下量气管液面高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结束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实验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3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摩尔气体常数的测定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920" y="3200040"/>
            <a:ext cx="5943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实验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实验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数据记录与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思考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一种测定气体常数的方法及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握理想气体状态方程和分压定律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气压计的使用、气体体积的测量，进一步练习分析天平的使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实验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想气体状态方程通常写成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pV = n 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式中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为摩尔气体常数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J·mol1·K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为气体的压强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P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V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为气体的体积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为温度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为气体的物质的量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mol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；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为气体的质量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为气体的摩尔质量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g·mol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因此，只要测出一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给定气体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V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查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便可求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数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686880"/>
            <a:ext cx="823104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 + H2SO4 === H2↑ + MgSO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于收集的氢气中混有水蒸汽。氢气分压由分压定律可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895480" cy="12178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37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124080" y="4267080"/>
            <a:ext cx="304812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86880"/>
            <a:ext cx="823104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实验温度下，水的饱和蒸汽压（）可在附录七中查出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接通过温度计和气压计读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将所测得各项数据代入以下公式即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37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00400" y="2209680"/>
          <a:ext cx="2209680" cy="189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209680"/>
                    <a:ext cx="2209680" cy="18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7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实验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镁条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3~0.04 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镁条，用砂纸擦掉表面氧化膜，用水漂洗干净，再用乙醇漂洗，晾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称量镁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分析天平准确称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份已经擦掉表面氧化膜的镁条，每份重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3 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宜（精确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001 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689040"/>
            <a:ext cx="49528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装仪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装好仪器装置，先不接反应管，从漏斗加水，使量气管、胶管充满水，量气管水位略低于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刻度。上下移动漏斗，以赶尽附在量气管和胶管内壁的气泡。然后将反应管接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37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562720" y="914400"/>
            <a:ext cx="2536560" cy="3657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410080" y="4876920"/>
            <a:ext cx="327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测定气体常数的装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量气管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漏斗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试管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镁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7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检查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检查系统的气密性：将漏斗向上或向下移动一段距离后停下，若开始时漏斗水面有变化而后维持不变（观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~5mi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，即表明系统不漏气。如果漏斗内的水面不断下降，说明与外界相通，即系统漏气，应检查接口是否严密，直至不漏气为止，即：抬高（或下移）液面调节器量气管内液面不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1:44:26Z</dcterms:created>
  <dc:creator>Samaria</dc:creator>
  <dc:description>化学与药学系实验中心ppt模版</dc:description>
  <dc:language>en-US</dc:language>
  <cp:lastModifiedBy>user</cp:lastModifiedBy>
  <dcterms:modified xsi:type="dcterms:W3CDTF">2010-12-20T06:18:49Z</dcterms:modified>
  <cp:revision>24</cp:revision>
  <dc:subject>ppt模版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  <property fmtid="{D5CDD505-2E9C-101B-9397-08002B2CF9AE}" pid="4" name="办公室">
    <vt:r8>403</vt:r8>
  </property>
  <property fmtid="{D5CDD505-2E9C-101B-9397-08002B2CF9AE}" pid="5" name="编辑">
    <vt:lpwstr>Zhrl</vt:lpwstr>
  </property>
</Properties>
</file>