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3A9-D3F8-42AC-9337-44D5066358FA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81680" y="152280"/>
            <a:ext cx="19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锡、铅、锑、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880" y="228240"/>
            <a:ext cx="6858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CCA4-D535-4F39-BD6B-D92A7DA4FAF4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F95-5E1A-41B9-ACAE-5CB680BDA682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07440" y="152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锡、铅、锑、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515680"/>
            <a:ext cx="701028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锡、铅、锑、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1.03 ~ 2011.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D69E89-3037-4961-904E-1033F416ACB5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实验内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一）氢氧化物的酸碱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试管分别加入浓度都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Cl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3 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，各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ol·L-1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沉淀的生成。离心分离后分别加入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观察沉淀有何变化，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二）氧化还原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(Ⅱ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还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mol·L-1FeCl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（呈何色？），慢慢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直至溶液呈无色，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逐滴加入过量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ol·L-1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至最初的沉淀刚溶解完，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BiCl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，观察现象，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(Ⅳ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氧化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，加入浓盐酸，观察现象，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L 2mol·L-1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Mn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微热，静置澄清后，观察溶液的颜色，写出反应方程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(Ⅴ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氧化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一支试管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Mn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L6mol·L-1H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酸化，加入少量固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震荡并微热，观察溶液颜色有何变化，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三）盐类水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粒，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蒸馏水溶解，有何现象？并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纸检验溶液的酸碱性。再往溶液中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ol·L-1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又有何变化？解释并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分别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Cl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代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复上述实验，观察现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四） 铅的难溶盐的生成和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试管中各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-1Pb(NO3)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，然后分别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ol·L-1H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-1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ol·L-1H2SO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-1K2CrO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观察沉淀的生成和颜色 ，然后做以下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冷水浴和热水浴中的溶解情况，说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溶解度与温度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I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饱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的溶解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SO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饱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4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溶解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rO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mol·L-1HN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mol·L-1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溶解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写出上述反应的离子反应方程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五）硫化物的生成和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试管分别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Pb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BiCl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SbCl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各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硫代乙酸胺（或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），观察沉淀的生成和颜色。然后实验各硫化物沉淀在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ol·L-1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ol·L-1Na2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的溶解情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验室配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时，为什么要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解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，并加入锡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二价锡盐和二价铅盐的还原性，四价锡盐和四价铅盐的氧原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验的碱性时，应使用何种酸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溶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2S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S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溶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怎样分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18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锡、铅、锑、铋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实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锡、铅、锑、铋的氢氧化物的酸碱性；低氧化态化合物的还原性；高氧化态化合物的氧化性；盐类水解及硫化物和难溶盐的性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鉴定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锡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和铅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种氧化态，锑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和秘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也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种氧化态。它们的氢氧化物多具有两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2895480"/>
            <a:ext cx="8153280" cy="2603160"/>
            <a:chOff x="380880" y="2895480"/>
            <a:chExt cx="8153280" cy="2603160"/>
          </a:xfrm>
        </p:grpSpPr>
        <p:sp>
          <p:nvSpPr>
            <p:cNvPr id="166" name=""/>
            <p:cNvSpPr/>
            <p:nvPr/>
          </p:nvSpPr>
          <p:spPr>
            <a:xfrm>
              <a:off x="827280" y="3376800"/>
              <a:ext cx="2706480" cy="16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(OH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Pb(OH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两性偏碱      两性偏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(OH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Pb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两性偏酸       两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93200" y="3376800"/>
              <a:ext cx="3177360" cy="16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b(OH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Bi(OH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两性               碱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Sb(OH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HBi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弱酸       不能稳定存在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3376800"/>
              <a:ext cx="2291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6160" y="3376800"/>
              <a:ext cx="2813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5720" y="5002560"/>
              <a:ext cx="2291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01640" y="5002560"/>
              <a:ext cx="2813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280" y="3527640"/>
              <a:ext cx="72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35200" y="3482280"/>
              <a:ext cx="72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2240" y="2910240"/>
              <a:ext cx="145800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9400" y="4942080"/>
              <a:ext cx="145800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3421800"/>
              <a:ext cx="416160" cy="16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5200" y="3376800"/>
              <a:ext cx="416160" cy="16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93200" y="3557520"/>
              <a:ext cx="72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17640" y="3467160"/>
              <a:ext cx="108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6600" y="4957200"/>
              <a:ext cx="14580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11480" y="2895480"/>
              <a:ext cx="145800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7640" y="3376800"/>
              <a:ext cx="416520" cy="16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61560" y="3376800"/>
              <a:ext cx="416520" cy="16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b3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3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卤化物都能发生不同程度的水解反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解不显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nCl2 + H2O === Sb(OH)Cl↓+ 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bCl3 + H2O === SbOCl↓+ 2 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Cl3 + H2O === BiOCl↓+ 2 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酸性溶液中，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bO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Bi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很强的氧化性，它们能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氧化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 Pb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5 Pb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2 Mn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M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5NaBi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14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2Mn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5Bi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碱性溶液中用强氧化剂如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Cl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将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b(Ⅱ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(Ⅲ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化合物氧化成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bO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Bi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b(OH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Pb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(OH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N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3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== NaBi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↓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还原性很强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还原剂的最典型反应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gCl2 + S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适量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= Hg2Cl2↓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Sn4+ + 2 C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Cl2 + S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过量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= 2 H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Sn4+ + 2 C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用上述反应鉴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碱性溶液中，亚锡酸的还原性更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 HSnO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2 Bi3+ + 9 O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3 H2O === 3 Sn(OH)6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2 Bi↓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黑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用此反应来检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3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锡、铅、锑、秘的硫化物的酸碱性的递变规律如下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2209680"/>
            <a:ext cx="7848360" cy="2506320"/>
            <a:chOff x="762120" y="2209680"/>
            <a:chExt cx="7848360" cy="2506320"/>
          </a:xfrm>
        </p:grpSpPr>
        <p:sp>
          <p:nvSpPr>
            <p:cNvPr id="193" name=""/>
            <p:cNvSpPr/>
            <p:nvPr/>
          </p:nvSpPr>
          <p:spPr>
            <a:xfrm>
              <a:off x="1191960" y="2673000"/>
              <a:ext cx="260496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S        Pb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碱性       碱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Pb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酸性   不能稳定存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02000" y="2673000"/>
              <a:ext cx="325908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B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两性             碱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B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两性偏酸性  不能稳定存在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48920" y="2673000"/>
              <a:ext cx="2205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01000" y="2673000"/>
              <a:ext cx="2707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92480" y="4238280"/>
              <a:ext cx="2205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02520" y="4238280"/>
              <a:ext cx="2707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1960" y="2818080"/>
              <a:ext cx="72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98360" y="2774880"/>
              <a:ext cx="72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93160" y="2224080"/>
              <a:ext cx="14036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2120" y="4180320"/>
              <a:ext cx="140328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120" y="2716560"/>
              <a:ext cx="40068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98360" y="2673000"/>
              <a:ext cx="40068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02000" y="2846880"/>
              <a:ext cx="720" cy="13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09440" y="2760120"/>
              <a:ext cx="1080" cy="13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03720" y="4194720"/>
              <a:ext cx="140328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89320" y="2209680"/>
              <a:ext cx="140328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9440" y="2673000"/>
              <a:ext cx="40104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碱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6200" y="2673000"/>
              <a:ext cx="40104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酸性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n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酸性硫化物，能溶于碱性硫化物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(NH4)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b2S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b2S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两性硫化物，它们既能溶于浓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也能溶于碱性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(NH4)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碱性硫化物，能溶于浓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而不溶于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低氧化态的硫化物如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b2S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由于其具有还原性，所以能被多硫化物氧化为高氧化态的硫化物而溶解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S + S2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= SnS2 + S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nS2 + S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== SnS3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i2S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不溶于浓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也不溶于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(NH4)2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多硫化物，只能溶于氧化性酸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cp:keywords/>
  <dc:language>en-US</dc:language>
  <cp:lastModifiedBy>user</cp:lastModifiedBy>
  <dcterms:modified xsi:type="dcterms:W3CDTF">2011-02-23T12:20:56Z</dcterms:modified>
  <cp:revision>27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