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931A-F531-41D4-B358-929368A4FAC9}" type="slidenum">
              <a:rPr b="0" lang="en-US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38680" y="15228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醋酸解离度和离常数的测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C9E1-6E62-4B82-9454-6B40F1E3ADD1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7888-7D17-4054-B57D-ADFC1A9D1833}" type="slidenum">
              <a:rPr b="0" lang="en-US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89320" y="152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氧化还原和电极电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300,4,&#24187;&#28783;&#29255; 4" TargetMode="External"/><Relationship Id="rId3" Type="http://schemas.openxmlformats.org/officeDocument/2006/relationships/hyperlink" Target="305,7,&#24187;&#28783;&#29255; 7" TargetMode="External"/><Relationship Id="rId4" Type="http://schemas.openxmlformats.org/officeDocument/2006/relationships/hyperlink" Target="310,10,&#24187;&#28783;&#29255; 10" TargetMode="External"/><Relationship Id="rId5" Type="http://schemas.openxmlformats.org/officeDocument/2006/relationships/hyperlink" Target="318,12,&#24187;&#28783;&#29255; 12" TargetMode="External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515680"/>
            <a:ext cx="701028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醋酸解离度和解离常数的测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0.10 ~ 2010.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680F423-E550-49B9-9061-3E1CE1BCE0BA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8640" y="686880"/>
            <a:ext cx="8383680" cy="16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数据记录及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H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值及解离常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-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验数据记录                   室温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066680" y="2438280"/>
          <a:ext cx="7543800" cy="2643120"/>
        </p:xfrm>
        <a:graphic>
          <a:graphicData uri="http://schemas.openxmlformats.org/drawingml/2006/table">
            <a:tbl>
              <a:tblPr/>
              <a:tblGrid>
                <a:gridCol w="2317680"/>
                <a:gridCol w="1282680"/>
                <a:gridCol w="1365480"/>
                <a:gridCol w="1344600"/>
                <a:gridCol w="1233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Ac] / mol·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+]/ mol·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304920" cy="333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981080" y="47242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混合溶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值及解离常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测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混合溶液数据记录与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2284560"/>
          <a:ext cx="7238880" cy="2946240"/>
        </p:xfrm>
        <a:graphic>
          <a:graphicData uri="http://schemas.openxmlformats.org/drawingml/2006/table">
            <a:tbl>
              <a:tblPr/>
              <a:tblGrid>
                <a:gridCol w="2743200"/>
                <a:gridCol w="2400480"/>
                <a:gridCol w="2095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Ac] / mol·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Ac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/ mol·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/ mol·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057400" y="4495680"/>
            <a:ext cx="228600" cy="257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057400" y="4876920"/>
            <a:ext cx="3049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思考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同浓度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的解离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否相同，为什么？ 用测定数据说明弱电解质解离度随浓度变化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测定不同浓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值时，为什么按由稀到浓的顺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酸度计的操作应该注意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测得结果与附录三中标准值进行比较，是否有偏差？如有偏差请说明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注意事项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酸度计的正确使用及其注意事项参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酸度计的使用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定的准确性取决于标准缓冲液的准确性。所以，用标准缓冲液校正仪器时，一定要将电极用滤纸吸干，避免引入水，用完不要倒掉，要送回原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6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醋酸解离度和解离常数的测定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数据记录与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和半中和法测定醋酸解离度和解离常数的原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深对解离度和解离常数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计的使用方法，进一步练习容量分析的基本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CH3COO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简写成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HA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是一元弱酸，在水溶液中存在着下列平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H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aq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===H</a:t>
            </a:r>
            <a:r>
              <a:rPr b="0" lang="zh-CN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aq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+ 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起始浓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/mol·L1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c                      0           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衡浓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/mol·L1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c -cα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cα                 c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解离平衡常数表达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当解离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α&lt; 5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时，可近似认为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1–α≈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286000" y="4800600"/>
            <a:ext cx="3200040" cy="1060560"/>
            <a:chOff x="2286000" y="4800600"/>
            <a:chExt cx="3200040" cy="106056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286000" y="4922280"/>
              <a:ext cx="228564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4572000" y="4800600"/>
              <a:ext cx="914040" cy="1060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H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酸度计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）测定一定温度下，一系列已知浓度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值，根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=–lg[H</a:t>
            </a:r>
            <a:r>
              <a:rPr b="0" lang="zh-CN" sz="2800" spc="-1" strike="noStrike" baseline="6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求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zh-CN" sz="2800" spc="-1" strike="noStrike" baseline="6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再根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zh-CN" sz="2800" spc="-1" strike="noStrike" baseline="6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c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 cα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即可求得一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值，取其平均值即为在该温度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解离常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724280" y="2057400"/>
          <a:ext cx="50184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057400"/>
                    <a:ext cx="501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半中和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-Na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缓冲溶液，该溶液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值可由下式求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和掉一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量，此时溶液中剩余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浓度恰好等于生成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a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浓度，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Na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此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 =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测定一定温度下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a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混合溶液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即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解离常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00400" y="2057400"/>
          <a:ext cx="30322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057400"/>
                    <a:ext cx="3032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29000" y="4038480"/>
                <a:ext cx="609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θ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实验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测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配制不同浓度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移液管和吸量管分别吸取已标定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 m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放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容量瓶中（编号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用蒸馏水稀释至刻度，摇匀。计算出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的浓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号容量瓶中的溶液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准溶液（编号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，分别倒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干燥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烧杯中（编号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待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溶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值的测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酸度计分别测定上述各种浓度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（由稀到浓）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值，并记录每份溶液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值及测定时的室温（思考：为何要测量室温？）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中和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的配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吸量管移取已知浓度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准溶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并计算出中和其一半所需的已知浓度的标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的用量，用吸量管准确移取，记下总体积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并测定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定缓冲溶液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量筒加入等体积（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的水，将上述混合溶液稀释一倍，再测定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dc:language>en-US</dc:language>
  <cp:lastModifiedBy>user</cp:lastModifiedBy>
  <dcterms:modified xsi:type="dcterms:W3CDTF">2010-12-20T06:18:49Z</dcterms:modified>
  <cp:revision>24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