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617220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617220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617220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68688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528720"/>
            <a:ext cx="264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617220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2872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686880"/>
            <a:ext cx="40158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28720"/>
            <a:ext cx="8229600" cy="25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640" indent="528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812E-5E6E-4CA1-A5EC-F6E85D7E1164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24480" y="152280"/>
            <a:ext cx="23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铬、锰、铁、钴、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80520" y="228240"/>
            <a:ext cx="6172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54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0" y="25146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286000" y="3504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2286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577D-9F41-4534-8C63-7DD75AF9344B}" type="datetime3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31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6400800"/>
            <a:ext cx="3810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</a:rPr>
              <a:t>实验中心网站：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hx.jluzh.com/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3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E5F4-BF9E-4BEB-8AA5-50997C9A3594}" type="slidenum">
              <a:rPr b="0" lang="zh-CN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04400" y="1522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铬、锰、铁、钴、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477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b6767"/>
                </a:solidFill>
                <a:latin typeface="Arial"/>
                <a:ea typeface="楷体"/>
              </a:rPr>
              <a:t>自定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1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2515680"/>
            <a:ext cx="701028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铬、锰、铁、钴、镍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895480" y="33526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011.03 ~ 2011.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A30B8A5-6360-445F-B921-A4186C78C4C1}" type="datetime3">
              <a:rPr lang="en-US"/>
              <a:t>July 31, 2026</a:t>
            </a:fld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于存在非成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子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(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(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水合物均具有颜色。铁系元素能够与多种配离子，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N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T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有机配体等形成配位，因此通常利用其配位性质来鉴定铁系元素离子。此外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都可形成氨合物，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容易水解而不形成氨合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实验内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铬、锰、铁、钴、镍的氧化还原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铬的氧化还原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(III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还原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向其中逐滴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观察沉淀的产生及溶解，再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%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于沸水浴加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~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，观察溶液颜色变化。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完全分解后（为什么？），再滴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溶液变为橙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出以上各步反应式，标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价态变化，并说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不同化合态之间的转换条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68904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(VI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氧化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上面得到的橙色溶液中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乙醇 ，观察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 + 8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== 2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H + 2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1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该反应已被用于交警对司机酒后驾车的快速检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过氧化铬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与铬的鉴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试管中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乙醚，再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%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溶液，充分振荡，观察水层与乙醚层颜色的变化。此反应可用来鉴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== 2 Cr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5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产物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水溶液中不稳定，萃取并溶解到乙醚层中之后将呈现出蓝色。试指出产物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素的化合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另取一支试管，不加乙醚重复以上实验，观察现象。通过比较实验，说明在上一步实验中水层颜色变化的原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锰的氧化还原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(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还原性（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(IV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氧化还原性（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(V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氧化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按以下步骤试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酸性、中性及碱性条件下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的作用，观察各自现象并写出相关反应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铁、钴、镍的氧化还原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(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(II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还原性 （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氢氧化物的生成及其还原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饱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向其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观察灰绿色沉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注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生成。静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~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，观察沉淀颜色变化。写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氧化的反应式。向得到的沉淀中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%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振荡摇匀，待沉淀完全变为红棕色后，放置备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另外分别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i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各自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观察沉淀颜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放置一段时间，观察沉淀颜色有无变化。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(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(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沉淀中分别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%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观察它们有无变化。再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(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沉淀中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溴水，观察沉淀颜色的变化。写出相关反应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适量蒸馏水洗涤上述三支试管中的沉淀，并离心分离得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沉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以上实验现象，比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(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(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(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还原性差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I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(I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(I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氧化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向上一步得到的三份沉淀中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浓盐酸，观察现象，并用碘化钾淀粉试纸检测是否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成。写出相关反应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I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(I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(I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氧化性差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配合物的生成及离子鉴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溶液中离子的颜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合前面的实验内容，观察并说明以下离子的颜色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注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氨合物的生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（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铁、钴、镍的鉴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I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鉴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已酸化的饱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邻二氮菲水溶液，振荡后放置片刻，观察溶液颜色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647712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20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铬、锰、铁、钴、镍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590920" y="320004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实验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(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鉴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一小片滤纸上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于电炉上方烘干，观察现象。在干燥后的滤纸上再滴一滴蒸馏水，观察现象。根据实验现象在下方括号里填写相应颜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l·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中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~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丙酮，观察溶液颜色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Co(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4 Cl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[CoCl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红色）                          （蓝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rcRect l="0" t="0" r="0" b="19189"/>
          <a:stretch/>
        </p:blipFill>
        <p:spPr>
          <a:xfrm>
            <a:off x="685800" y="2971800"/>
            <a:ext cx="7924680" cy="996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33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267080" y="5105520"/>
          <a:ext cx="914400" cy="24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5105520"/>
                    <a:ext cx="91440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(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鉴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:1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再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丁二酮肟乙醇溶液，观察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7" descr=""/>
          <p:cNvPicPr/>
          <p:nvPr/>
        </p:nvPicPr>
        <p:blipFill>
          <a:blip r:embed="rId2"/>
          <a:srcRect l="0" t="0" r="0" b="61688"/>
          <a:stretch/>
        </p:blipFill>
        <p:spPr>
          <a:xfrm>
            <a:off x="380880" y="2819520"/>
            <a:ext cx="83822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I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I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盐的水解及两性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(III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向其中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观察现象，写出反应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另取一支试管重做一份，将得到的两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沉淀分别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验它们在酸性及强碱性条件下的溶解性。写出反应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(III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烧杯加热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蒸馏水，沸腾后，向其中滴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~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5 mol·L-1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继续沸腾片刻，观察现象，写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I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解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同样方法试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观察溶液水解情况。再向其中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观察其水解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者水解能力的强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四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难溶盐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加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。观察现象，并检验沉淀产物在酸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C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）与碱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）中的溶解性。写出相关反应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同样方法试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。写出相关反应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.1 mol·L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替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试验其与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的反应。写出相关反应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思考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根据实验内容，试归纳铬、锰、铁、钴、镍等各自的离子鉴定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饱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与浓硫酸的混合溶液即为铬酸洗液，新配制的铬酸洗液可以看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晶体析出。铬酸洗液具有极强的氧化性，在实验室常用于洗涤玻璃器皿以除去油污，失效的洗液经再生处理后可重复使用。请说明如何判断铬酸洗液失效与否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怎样实现下列反应物间相互转化，写出离子反应方程式，指出下列各物质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62120" y="2362320"/>
            <a:ext cx="3535200" cy="1336320"/>
            <a:chOff x="762120" y="2362320"/>
            <a:chExt cx="3535200" cy="1336320"/>
          </a:xfrm>
        </p:grpSpPr>
        <p:grpSp>
          <p:nvGrpSpPr>
            <p:cNvPr id="219" name=""/>
            <p:cNvGrpSpPr/>
            <p:nvPr/>
          </p:nvGrpSpPr>
          <p:grpSpPr>
            <a:xfrm>
              <a:off x="1449000" y="2549880"/>
              <a:ext cx="545040" cy="54720"/>
              <a:chOff x="1449000" y="2549880"/>
              <a:chExt cx="545040" cy="54720"/>
            </a:xfrm>
          </p:grpSpPr>
          <p:sp>
            <p:nvSpPr>
              <p:cNvPr id="220" name=""/>
              <p:cNvSpPr/>
              <p:nvPr/>
            </p:nvSpPr>
            <p:spPr>
              <a:xfrm>
                <a:off x="1449000" y="2549880"/>
                <a:ext cx="545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1449000" y="2604600"/>
                <a:ext cx="545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044000" y="2727000"/>
              <a:ext cx="56160" cy="654480"/>
              <a:chOff x="1044000" y="2727000"/>
              <a:chExt cx="56160" cy="65448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1098720" y="2727000"/>
                <a:ext cx="1440" cy="654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1044000" y="2727360"/>
                <a:ext cx="1440" cy="654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993320" y="2362320"/>
              <a:ext cx="89604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(OH)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05680" y="3377520"/>
              <a:ext cx="7916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54360" y="2362320"/>
              <a:ext cx="61812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3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3377520"/>
              <a:ext cx="7387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980800" y="2549880"/>
              <a:ext cx="545760" cy="54720"/>
              <a:chOff x="2980800" y="2549880"/>
              <a:chExt cx="545760" cy="54720"/>
            </a:xfrm>
          </p:grpSpPr>
          <p:sp>
            <p:nvSpPr>
              <p:cNvPr id="230" name=""/>
              <p:cNvSpPr/>
              <p:nvPr/>
            </p:nvSpPr>
            <p:spPr>
              <a:xfrm>
                <a:off x="2981160" y="2549880"/>
                <a:ext cx="545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980800" y="2604600"/>
                <a:ext cx="545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3378600" y="2362320"/>
              <a:ext cx="8654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815640" y="2739960"/>
              <a:ext cx="56160" cy="653760"/>
              <a:chOff x="3815640" y="2739960"/>
              <a:chExt cx="56160" cy="65376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3870360" y="2739960"/>
                <a:ext cx="1440" cy="653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3815640" y="2739960"/>
                <a:ext cx="1440" cy="653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662480" y="3565080"/>
              <a:ext cx="1635840" cy="54720"/>
              <a:chOff x="1662480" y="3565080"/>
              <a:chExt cx="1635840" cy="5472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662480" y="3565080"/>
                <a:ext cx="163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662480" y="3619800"/>
                <a:ext cx="163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4804200" y="2362320"/>
            <a:ext cx="3785040" cy="1669680"/>
            <a:chOff x="4804200" y="2362320"/>
            <a:chExt cx="3785040" cy="1669680"/>
          </a:xfrm>
        </p:grpSpPr>
        <p:grpSp>
          <p:nvGrpSpPr>
            <p:cNvPr id="240" name=""/>
            <p:cNvGrpSpPr/>
            <p:nvPr/>
          </p:nvGrpSpPr>
          <p:grpSpPr>
            <a:xfrm>
              <a:off x="5863680" y="2611440"/>
              <a:ext cx="1656720" cy="66600"/>
              <a:chOff x="5863680" y="2611440"/>
              <a:chExt cx="1656720" cy="66600"/>
            </a:xfrm>
          </p:grpSpPr>
          <p:sp>
            <p:nvSpPr>
              <p:cNvPr id="241" name=""/>
              <p:cNvSpPr/>
              <p:nvPr/>
            </p:nvSpPr>
            <p:spPr>
              <a:xfrm>
                <a:off x="5863680" y="2611440"/>
                <a:ext cx="16567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863680" y="2678040"/>
                <a:ext cx="16567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494320" y="2760480"/>
              <a:ext cx="944280" cy="883440"/>
              <a:chOff x="5494320" y="2760480"/>
              <a:chExt cx="944280" cy="883440"/>
            </a:xfrm>
          </p:grpSpPr>
          <p:sp>
            <p:nvSpPr>
              <p:cNvPr id="244" name=""/>
              <p:cNvSpPr/>
              <p:nvPr/>
            </p:nvSpPr>
            <p:spPr>
              <a:xfrm flipH="1" flipV="1">
                <a:off x="5539680" y="2760480"/>
                <a:ext cx="898920" cy="83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94320" y="2809800"/>
                <a:ext cx="899280" cy="834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988680" y="2791440"/>
              <a:ext cx="921960" cy="906120"/>
              <a:chOff x="6988680" y="2791440"/>
              <a:chExt cx="921960" cy="90612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6988680" y="2791440"/>
                <a:ext cx="875160" cy="85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7035120" y="2838960"/>
                <a:ext cx="875520" cy="85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7747560" y="2362320"/>
              <a:ext cx="84168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04200" y="2362320"/>
              <a:ext cx="10893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19600" y="3641040"/>
              <a:ext cx="8978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n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22080" y="2910240"/>
              <a:ext cx="720" cy="73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76560" y="3641040"/>
              <a:ext cx="736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为白色沉淀，但通常只能看到灰绿色物质。如要得到白色沉淀，可先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煮沸片刻以除去溶解氧，并以除氧蒸馏水配制饱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盐溶液，以长滴管吸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伸入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II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盐溶液中，挤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方可看到灰白或白色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沉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遇碱一般先生成蓝色沉淀，但不是稳定状态，放置后或受热时变成粉红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468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区过渡元素的氧化还原性质及规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468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掌握铬和锰重要氧化态之间的转化反应及其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468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观察及掌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区过渡元素配位化合物的特征颜色及其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468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和掌握铁、钴、镍等元素的鉴定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呈淡紫色，近于无色。 一般以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呈棕黄色，这是水解产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颜色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易水解，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≈ 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就开始水解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≈ 4~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完全水解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棕色。用强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HCl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除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= 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则看到近无色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若用盐酸则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黄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实验原理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铬、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铬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、锰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的价电子层结构分别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它们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子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子都参与成键，最高氧化数分别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其中，铬的常见氧化态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锰的常见氧化态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(III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碱性条件下具有较强的还原性，易被氧化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(V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CrO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绿色）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3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2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== 2 Cr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黄色）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常见的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(V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化合物有铬酸钾（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黄色）、重铬酸钾（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橙色）、三氧化铬（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深红色）等，其中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实验室最常用的氧化剂之一。它在溶液中与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存在着如下平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Cr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== Cr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都可以与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阳离子生成难溶铬酸盐沉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Cr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== BaCr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Ba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=== 2 BaCr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↓+ 2 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亦是实验室常用的氧化剂。它的氧化能力和还原产物因介质酸碱性不同而有着显著差别，在酸性、中性（或弱碱性）、强碱性介质中，它的还原产物依次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这主要是由于产物在不同酸碱条件下的稳定性差异的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6768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铁、钴、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铁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、钴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、镍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均属于第四周期铁系元素，其价电子构型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~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子参与成键外，内层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轨道电子也可能参与成键，因此，铁的稳定氧化态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也存在不稳定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氧化态。钴和镍的稳定氧化态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708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氢氧化物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种，其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氧化数分别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它们都难溶于水，其氧化还原性质规律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33720" y="2438280"/>
          <a:ext cx="4952880" cy="340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438280"/>
                    <a:ext cx="495288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1:44:26Z</dcterms:created>
  <dc:creator>Samaria</dc:creator>
  <dc:description>化学与药学系实验中心ppt模版</dc:description>
  <cp:keywords/>
  <dc:language>en-US</dc:language>
  <cp:lastModifiedBy>user</cp:lastModifiedBy>
  <dcterms:modified xsi:type="dcterms:W3CDTF">2011-02-23T11:41:33Z</dcterms:modified>
  <cp:revision>25</cp:revision>
  <dc:subject>ppt模版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  <property fmtid="{D5CDD505-2E9C-101B-9397-08002B2CF9AE}" pid="4" name="办公室">
    <vt:r8>403</vt:r8>
  </property>
  <property fmtid="{D5CDD505-2E9C-101B-9397-08002B2CF9AE}" pid="5" name="编辑">
    <vt:lpwstr>Zhrl</vt:lpwstr>
  </property>
</Properties>
</file>