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528720"/>
            <a:ext cx="822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2872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52872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68688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68688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52872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52872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52872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40158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686880"/>
            <a:ext cx="40158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6858000" cy="12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686880"/>
            <a:ext cx="40158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52872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40158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52872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28720"/>
            <a:ext cx="822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528720"/>
            <a:ext cx="822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2872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52872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68688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68688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52872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52872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52872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40158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686880"/>
            <a:ext cx="40158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6858000" cy="12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686880"/>
            <a:ext cx="40158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2872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40158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52872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528720"/>
            <a:ext cx="822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528720"/>
            <a:ext cx="822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52872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52872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68688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68688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52872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52872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52872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40158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686880"/>
            <a:ext cx="40158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40158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686880"/>
            <a:ext cx="40158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6858000" cy="12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686880"/>
            <a:ext cx="40158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52872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40158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52872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528720"/>
            <a:ext cx="822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528720"/>
            <a:ext cx="822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52872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52872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68688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68688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52872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52872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52872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6858000" cy="12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686880"/>
            <a:ext cx="40158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52872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40158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52872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28720"/>
            <a:ext cx="822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7640" indent="528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8381880" y="65415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2736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5982-E766-444B-AD70-7455A1A31223}" type="slidenum">
              <a:rPr b="0" lang="zh-CN" sz="1400" spc="-1" strike="noStrike">
                <a:solidFill>
                  <a:srgbClr val="e273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781680" y="152280"/>
            <a:ext cx="19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db6767"/>
                </a:solidFill>
                <a:latin typeface="Arial"/>
                <a:ea typeface="楷体_GB2312"/>
              </a:rPr>
              <a:t>铜、银、锌、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380880" y="228240"/>
            <a:ext cx="68580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54612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4612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4612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5461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5461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0" y="251460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2286000" y="3504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marL="15768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4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5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6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2"/>
          </p:nvPr>
        </p:nvSpPr>
        <p:spPr>
          <a:xfrm>
            <a:off x="228600" y="6400440"/>
            <a:ext cx="2666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5E20-3A30-45C0-AE57-379E381034BA}" type="datetime3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026年7月31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6400800"/>
            <a:ext cx="38102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</a:rPr>
              <a:t>实验中心网站：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ttp://hx.jluzh.com/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-50796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6760" indent="-50796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6760" indent="-50796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6760" indent="-50796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3"/>
          </p:nvPr>
        </p:nvSpPr>
        <p:spPr>
          <a:xfrm>
            <a:off x="8381880" y="65415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2736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0F7F-5E5C-418E-8B0B-3641F300BFC2}" type="slidenum">
              <a:rPr b="0" lang="zh-CN" sz="1400" spc="-1" strike="noStrike">
                <a:solidFill>
                  <a:srgbClr val="e273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07440" y="15228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db6767"/>
                </a:solidFill>
                <a:latin typeface="Arial"/>
                <a:ea typeface="楷体_GB2312"/>
              </a:rPr>
              <a:t>铜、银、锌、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64771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b6767"/>
                </a:solidFill>
                <a:latin typeface="Arial"/>
                <a:ea typeface="楷体"/>
              </a:rPr>
              <a:t>自定义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3.xml"/><Relationship Id="rId5" Type="http://schemas.openxmlformats.org/officeDocument/2006/relationships/slide" Target="slide24.xml"/><Relationship Id="rId6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8960" y="2515680"/>
            <a:ext cx="7010280" cy="6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铜、银、锌、汞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895480" y="335268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2011.03 ~ 2011.04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96E55BA-F6EB-4745-B44F-6F9E5897FE7F}" type="datetime3">
              <a:rPr lang="en-US"/>
              <a:t>July 31, 2026</a:t>
            </a:fld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u(Ⅰ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u(Ⅱ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相互转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V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u2+ 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 0.15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Cu+ 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0.5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铜的元素电势图可知，在酸性溶液中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u+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溶液中不稳定，易发生歧化反应生成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u2+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反应进行得很彻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2 Cu+ === Cu2+ + 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u2O + H2SO4 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稀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) === Cu + CuSO4 + H2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143000" y="1371600"/>
                <a:ext cx="398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θ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要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2+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转变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在有还原剂存在的同时，还必须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(Ⅰ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沉淀剂或配合剂存在，以降低溶液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浓度，使之成为难溶或难解离的化合物，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Cu2+ + 4 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== 2 CuI ↓ + I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2+ + Cu + 4 Cl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== 2 [CuCl2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CuCl2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== CuCl↓ + Cl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汞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和汞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的相互转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V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g2+ 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 0.92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g22+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0.79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汞的元素电势图可知，在酸性溶液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g22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会发生歧化反应。降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g2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浓度，可使平衡向有利于歧化反应的方向移动。如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g22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中加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g2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离子的沉淀剂或配合剂时，促使歧化反应发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g22+ + H2S == HgS ↓ + Hg + 2 H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Hg22+ + 4 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=== [HgI4]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+ 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219320" y="1295280"/>
                <a:ext cx="463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θ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实验内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一）与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溶液的反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别向少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O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NO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SO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g(NO3)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中滴加适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moL·L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­­ NaO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，观察沉淀的生成和颜色。分别试验沉淀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moL·L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­­ HC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和过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的反应，观察现象，并写出相关方程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67680"/>
            <a:ext cx="685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二）硫化物的生成和性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少量硫代乙酰胺溶液中，加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moL·L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H2SO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，分别试验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O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NO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SO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g(NO3)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的作用，观察硫化物的生成和颜色。试验各硫化物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moL·L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­­ HC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作用，不溶者洗净后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moL·L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­­ HNO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用，不溶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沉淀再与王水作用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3 = 3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自配），观察现象并写出相关方程式，比较各硫化物的稳定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67680"/>
            <a:ext cx="685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三） 配合物的生成与性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与氨生成的配合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分别向少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O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NO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SO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中逐滴滴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moL·L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氨水，观察沉淀的生成和再次溶解。将溶液分成两份，一份加热，一份缓慢滴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moL·L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HC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，观察现象并写出相关方程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67680"/>
            <a:ext cx="685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向少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g(NO3)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中滴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moL·L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氨水，观察沉淀的生成和颜色。继续滴加氨水观察是否溶解。加入适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moL·L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­­ NH4NO3­­-NH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混合溶液，观察沉淀是否溶解。写出相关方程式，并解释加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4NO3­­-NH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混合溶液的原因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67680"/>
            <a:ext cx="685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g2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配合物的生成和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gI42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生成与奈斯勒试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g(NO3)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，滴加适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2 moL·L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K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，观察沉淀的生成和颜色，继续滴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至沉淀全部溶解，观察溶液颜色。所得溶液中，加入少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moL·L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NaO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溶液，使溶液微黄又无明显沉淀出现，即得用来检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4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的奈斯勒试剂。向其中加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稀氨水（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4C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），观察沉淀颜色。写出相关方程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67680"/>
            <a:ext cx="685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Hg(SCN)4]2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生成和性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取少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g(NO3)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溶液，逐滴加入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.2 moL·L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KSCN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溶液，至生成的白色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g(SCN)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沉淀全部溶解，即生成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Hg(SCN)4]2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将其分为两份，分别滴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nSO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Cl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溶液，观察白色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n[Hg(SCN)4]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和蓝色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[Hg(SCN)4]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沉淀的生成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Hg(SCN)4]2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可用来鉴定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n2+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2+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67680"/>
            <a:ext cx="685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四）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(Ⅰ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(Ⅱ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化合物的相互转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生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向少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O4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中滴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2 moL·L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K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，溶液变为棕黄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u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白色沉淀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呈黄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再滴加适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5 moL·L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Na2S2O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，使溶液的黄色刚好褪去，以除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颜色的干扰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2S2O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宜加入过多，以免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继续反应将其溶解）。观察沉淀颜色，写出相关方程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实验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19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铜、银、锌、汞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2590920" y="3200040"/>
            <a:ext cx="5943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实验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实验原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实验步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思考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C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生成和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在试管中加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mL 2 moL·L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CuCl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mL 6 moL·L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­­ HC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mL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饱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C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和少量铜屑，水浴加热，溶液由绿色变深棕色。补加少量铜屑，继续加热，溶液颜色变浅直至近无色。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该溶液滴在事先加热煮沸除氧的去离子水中，如有白色沉淀生成，则迅速将全部溶液倒入除氧的去离子水中，得白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C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写出离子反应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取少量洗净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C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分为两份，分别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moL·L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H2SO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moL·L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氨水反应，静置一段时间，观察实验现象。写出相关方程式，并解释现象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生成和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在少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O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中加入过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moL·L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­­ NaO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，边滴加边振荡，至生成的沉淀全部溶解为深蓝色溶液，再加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葡萄糖溶液，水浴加热，有黄色沉淀生成，进而又变为红色沉淀。写出相关离子方程式。此反应用于医疗上诊断糖尿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将沉淀离心分离，洗净后分为两份，分别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moL·L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­­ HC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moL·L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H2SO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用，观察实验现象，写出相关方程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五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g(Ⅰ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g(Ⅱ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化合物的相互转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gCl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nCl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反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少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2 moL·L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­­ HgCl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中逐滴滴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2 moL·L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­­ SnCl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，边滴加边振荡试管，观察有何现象发生。写出相关离子方程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g22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歧化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少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2 moL·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g2(NO3)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中加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moL·L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氨水，观察现象，写出相关离子方程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、思考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g2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作用的产物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2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2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作用的产物是否相同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汞盐生成氨配合物时为什么要加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4NO3­­-NH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混合溶液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在制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，加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2S2O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作用是什么？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2S2O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加入过量，会有什么现象产生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 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Cl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中滴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2SO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HSO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能否析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C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沉淀？若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Cl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混合溶液，又是否会析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C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沉淀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g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溶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2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王水，而不溶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NO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将氨水分别加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2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2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g22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g2+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中是否都能得到氨配合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分别加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2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g22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g2+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中，各有何反应（沉淀、配合物生成反应，氧化还原反应，歧化反应）发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分别加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2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2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g22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g2+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中是否都能得到氢氧化物沉淀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结束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注意事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 汞在常温下为液态，易挥发，汞蒸气吸入人体内会引起慢性中毒，造成机体损伤。因此汞单质要特别处理，通常在残存有汞的地方撒上一层硫磺粉，并摩擦，使汞生成稳定难挥发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g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gCl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易挥发，属剧毒物，故涉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gCl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实验可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g(NO3)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代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ⅲ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所有含汞离子的废液均不能随意弃去，要回收到指定的容器中集中处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Cl2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应在使用前配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实验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试验铜、银、锌、汞的氢氧化物（氧化物）和硫化物的生成和性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了解铜、银、锌、汞的金属离子形成配合物的特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了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(Ⅰ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(Ⅱ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g(Ⅰ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g(Ⅱ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相互转化条件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实验原理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铜、银、金三种元素属于铜副族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元素，其价电子构型为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n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铜的常见氧化态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银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金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铜元素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价氧化态不稳定，尤其在酸性溶液中。锌、镉、汞三种元素属于锌副族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元素，其价电子构型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最常见的氧化态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2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价，汞还有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1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价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g22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86880"/>
            <a:ext cx="823104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由于这些简单离子的电子构型具有或接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构型，在化合物中有较强的相互极化作用，成键的共价成分较大，故多数化合物较难溶，对热稳定性较差，易形成配合物，化合物常显示不同的颜色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686880"/>
            <a:ext cx="823104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2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2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g2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g22+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中滴加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，都可以形成氢氧化物沉淀，但它们的稳定性和酸碱性差别较大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80880" y="370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80880" y="2438280"/>
          <a:ext cx="8534520" cy="286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438280"/>
                    <a:ext cx="8534520" cy="28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67680"/>
            <a:ext cx="685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2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2+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中滴加入氨水溶液，首先生成相应的氢氧化物或氧化物，加入过量氨水生成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Cu(NH3)4]2+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深蓝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Ag(NH3)2] + 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无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Zn(NH3)4]2+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无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配离子，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g2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g22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氨水作用却生成氨基汞沉淀，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g2+ + NO3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+ 2 NH3 === Hg(NH2)NO3 ↓ + NH4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g22+ + NO3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+ 2 NH3 === Hg(NH2)NO3 ↓ + Hg ↓ + NH4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g2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只有在过量的铵盐存在下才与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H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Hg(NH3)4]2+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无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配离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67680"/>
            <a:ext cx="685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g2+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中滴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，首先产生橘红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gI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沉淀，沉淀溶于过量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，生成无色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HgI4]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配离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HgI4]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碱性溶液称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ssler 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奈斯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试剂。该试剂能有效的检验铵盐的存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67680"/>
            <a:ext cx="685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u2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g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Zn2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g2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g22+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中加入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a2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，都可以形成硫化物沉淀。其中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g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溶解度最小的硫化物，不溶于浓硝酸，但可溶于王水、过量的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2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酸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3 HgS + 8 H+ + 2 NO3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+ 12 Cl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==== 3 HgCl4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+ 3 S ↓ + 2 NO ↑ + 4 H2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gS + Na2S 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浓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) ==== Na2[HgS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gS + 2 H+ + 4 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==== [HgI4]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+ H2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1:44:26Z</dcterms:created>
  <dc:creator>Samaria</dc:creator>
  <dc:description>化学与药学系实验中心ppt模版</dc:description>
  <cp:keywords/>
  <dc:language>en-US</dc:language>
  <cp:lastModifiedBy>user</cp:lastModifiedBy>
  <dcterms:modified xsi:type="dcterms:W3CDTF">2011-02-23T12:20:12Z</dcterms:modified>
  <cp:revision>26</cp:revision>
  <dc:subject>ppt模版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  <property fmtid="{D5CDD505-2E9C-101B-9397-08002B2CF9AE}" pid="3" name="Version">
    <vt:r8>1</vt:r8>
  </property>
  <property fmtid="{D5CDD505-2E9C-101B-9397-08002B2CF9AE}" pid="4" name="办公室">
    <vt:r8>403</vt:r8>
  </property>
  <property fmtid="{D5CDD505-2E9C-101B-9397-08002B2CF9AE}" pid="5" name="编辑">
    <vt:lpwstr>Zhrl</vt:lpwstr>
  </property>
</Properties>
</file>