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640" indent="528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03C2-89D0-4951-A380-58668F29B59A}" type="slidenum">
              <a:rPr b="0" lang="zh-CN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562720" y="152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葡萄糖酸锌的制备与质量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80520" y="228240"/>
            <a:ext cx="72392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546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0" y="25146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286000" y="3504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2"/>
          </p:nvPr>
        </p:nvSpPr>
        <p:spPr>
          <a:xfrm>
            <a:off x="2286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EFB3-61A9-403B-A8BB-9D9B1B47E862}" type="datetime3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31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6400800"/>
            <a:ext cx="3810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</a:rPr>
              <a:t>实验中心网站：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hx.jluzh.com/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3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E680-C94D-478E-AD99-A40A7AE0D7EC}" type="slidenum">
              <a:rPr b="0" lang="zh-CN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68960" y="152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葡萄糖酸锌的制备与质量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477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b6767"/>
                </a:solidFill>
                <a:latin typeface="Arial"/>
                <a:ea typeface="楷体"/>
              </a:rPr>
              <a:t>自定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2362320"/>
            <a:ext cx="70102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葡萄糖酸锌的制备与质量分析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971800" y="33526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011.03 ~ 2011.0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5635452-D52C-4E5D-8871-CC3AC41FAAE1}" type="datetime3">
              <a:rPr lang="en-US"/>
              <a:t>July 31, 2026</a:t>
            </a:fld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8640" y="687240"/>
            <a:ext cx="83836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数据记录及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硫酸盐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现象描述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检查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葡萄糖酸锌的含量测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-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葡萄糖酸锌的含量测定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62120" y="2133720"/>
          <a:ext cx="7619760" cy="3504960"/>
        </p:xfrm>
        <a:graphic>
          <a:graphicData uri="http://schemas.openxmlformats.org/drawingml/2006/table">
            <a:tbl>
              <a:tblPr/>
              <a:tblGrid>
                <a:gridCol w="3657240"/>
                <a:gridCol w="1371600"/>
                <a:gridCol w="1447920"/>
                <a:gridCol w="1143000"/>
              </a:tblGrid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40" indent="-176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测定次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40" indent="-176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称量瓶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葡萄糖酸锌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40" indent="-176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称量瓶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剩余葡萄糖酸锌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40" indent="-176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葡萄糖酸锌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40" indent="-176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(EDTA)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40" indent="-176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葡萄糖酸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40" indent="-176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葡萄糖酸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40" indent="-176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40" indent="-176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思考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选用葡萄糖酸为原料，以下四种含锌化合物应选择哪种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ZnO                 b. ZnCl2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ZnCO3           d. Zn(CH3COO)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葡萄糖酸锌含量测定结果若不符合规定，可能有哪些原因引起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葡萄糖酸钙与硫酸锌反应时间不可过短，保证充分生成硫酸钙沉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抽滤除去硫酸钙后的滤液如果无色，可以不用脱色处理。如果脱色处理，一定要趁热过滤，防止产物过早冷却而析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硫酸根检查试验中，要注意比色管对照管和样品管的配对；两管的操作要平行进行，受光照的程度要一致，光线应从正面照入，置白色背景（黑色浑浊）或黑色背景（白色浑浊）上，自上而下地观察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实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21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葡萄糖酸锌的制备与质量分析 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590920" y="320004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实验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实验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数据记录与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思考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锌的生物意义和葡萄糖酸锌的制备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熟练掌握蒸发、浓缩、过滤、重结晶、滴定等操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葡萄糖酸锌的质量分析方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实验原理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锌存在于众多的酶系中，如碳酸酐酶，呼吸酶，乳酸脱氢酸，超氧化物歧化酶，碱性磷酸酶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聚中酶等中，为核酸，蛋白质，碳水化合物的合成和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利用所必需。锌具有促进生长发育，改善味觉的作用。锌缺乏时出现味觉，嗅觉差，厌食，生长与智力发育低于正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葡萄糖酸锌为补锌药，具有见效快、吸收率高、副作用小等优点。主要用于儿童及老年，妊娠妇女因缺锌引起的生长发育迟缓，营养不良，厌食症，复发性口腔溃疡，皮肤痤疮等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葡萄糖酸锌由葡萄糖酸直接与锌的氧化物或盐制得。本实验采用葡萄糖酸钙与硫酸锌直接反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H2OH(CHOH)4COO]2Ca+ZnSO4==[CH2OH(CHOH)4COO]2Zn+CaSO4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过滤除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沉淀，溶液经浓缩可得无色或白色葡萄糖酸锌结晶。无味，易溶于水，极难溶于乙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次实验只是对产品质量进行初步分析，分别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T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配位滴定和比浊法检测所制产物的锌和硫酸根含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实验步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萄糖酸锌的制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量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蒸馏水置烧杯中，加热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7g ZnSO4·7H2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完全溶解，将烧杯放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恒温水浴中，再逐渐加入葡萄糖酸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并不断搅拌。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浴上保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mi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趁热抽滤（滤渣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弃去），滤液移至蒸发皿中并在沸水浴上浓缩至粘稠状（体积约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如浓缩液有沉淀，需过滤掉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8904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滤液冷至室温，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乙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不断搅拌，此时有大量的胶状葡萄糖酸锌析出。充分搅拌后，用倾析法去除乙醇液。再在沉淀上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乙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充分搅拌后，沉淀慢慢转变成晶体状，抽滤至干，即得粗品（母液回收）。再将粗品加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加热至溶解，趁热抽滤，滤液冷至室温，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乙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充分搅拌，结晶析出后，抽滤至干，即得精品，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烘干，称重并计算产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687240"/>
            <a:ext cx="822960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硫酸盐的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取本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g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加水溶解使成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mL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如显碱性，可滴加盐酸使成中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溶液如不澄清，应滤过；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色管中，加稀盐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L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摇匀，即得供试溶液。另取标准硫酸钾溶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色管中，加水使成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加稀盐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摇匀，即得对照溶液。于供试溶液与对照溶液中，分别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氯化钡溶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用水稀释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充分摇匀，放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，同置黑色背景上，从比色管上方向下观察、比较，如发生浑浊，与标准硫酸钾溶液制成的对照液比较，不得更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锌含量的测定（不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准确称取本品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7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加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微热使溶解，加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氯化铵缓冲液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=10.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铬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示剂少许，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T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准溶液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5 mol·L-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滴定至溶液自紫红色转变为纯蓝色，平行测定三份，计算锌的含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1:44:26Z</dcterms:created>
  <dc:creator>Samaria</dc:creator>
  <dc:description>化学与药学系实验中心ppt模版</dc:description>
  <cp:keywords/>
  <dc:language>en-US</dc:language>
  <cp:lastModifiedBy>user</cp:lastModifiedBy>
  <dcterms:modified xsi:type="dcterms:W3CDTF">2011-02-26T13:57:31Z</dcterms:modified>
  <cp:revision>27</cp:revision>
  <dc:subject>ppt模版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  <property fmtid="{D5CDD505-2E9C-101B-9397-08002B2CF9AE}" pid="4" name="办公室">
    <vt:r8>403</vt:r8>
  </property>
  <property fmtid="{D5CDD505-2E9C-101B-9397-08002B2CF9AE}" pid="5" name="编辑">
    <vt:lpwstr>Zhrl</vt:lpwstr>
  </property>
</Properties>
</file>