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11.png" ContentType="image/png"/>
  <Override PartName="/ppt/media/image6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686880"/>
            <a:ext cx="82296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640" indent="528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7640" indent="528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640" indent="528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40" indent="52848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40" indent="52848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40" indent="52848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8381880" y="65415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2736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4EC32-E649-4553-BCC0-646A9C5CD10E}" type="slidenum">
              <a:rPr b="0" lang="en-US" sz="1400" spc="-1" strike="noStrike">
                <a:solidFill>
                  <a:srgbClr val="e2736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157800" y="15228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db6767"/>
                </a:solidFill>
                <a:latin typeface="Arial"/>
                <a:ea typeface="楷体_GB2312"/>
              </a:rPr>
              <a:t>化学反应速率与活化能的测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2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54612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54612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54612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54612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54612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0" y="251460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2286000" y="3504960"/>
            <a:ext cx="3657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marL="15768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157680" indent="-15768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57680" indent="-1576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57680" indent="-15768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4" marL="157680" indent="-15768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5" marL="157680" indent="-15768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6" marL="157680" indent="-15768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2"/>
          </p:nvPr>
        </p:nvSpPr>
        <p:spPr>
          <a:xfrm>
            <a:off x="228600" y="6400440"/>
            <a:ext cx="2666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E9B50-968E-4A7F-AD74-939E66D3CE3E}" type="datetime3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181480" y="6400800"/>
            <a:ext cx="381024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000000"/>
                </a:solidFill>
                <a:latin typeface="Arial"/>
              </a:rPr>
              <a:t>实验中心网站：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http://hx.jluzh.com/*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879560" indent="-50796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36760" indent="-50796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36760" indent="-50796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36760" indent="-50796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ftr" idx="3"/>
          </p:nvPr>
        </p:nvSpPr>
        <p:spPr>
          <a:xfrm>
            <a:off x="8381880" y="65415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2736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8D515-C4E3-4DB3-884C-ECE6E3428D86}" type="slidenum">
              <a:rPr b="0" lang="en-US" sz="1400" spc="-1" strike="noStrike">
                <a:solidFill>
                  <a:srgbClr val="e2736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89320" y="1522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db6767"/>
                </a:solidFill>
                <a:latin typeface="Arial"/>
                <a:ea typeface="楷体_GB2312"/>
              </a:rPr>
              <a:t>氧化还原和电极电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64771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db6767"/>
                </a:solidFill>
                <a:latin typeface="Arial"/>
                <a:ea typeface="楷体"/>
              </a:rPr>
              <a:t>自定义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300,4,&#24187;&#28783;&#29255; 4" TargetMode="External"/><Relationship Id="rId3" Type="http://schemas.openxmlformats.org/officeDocument/2006/relationships/hyperlink" Target="305,7,&#24187;&#28783;&#29255; 7" TargetMode="External"/><Relationship Id="rId4" Type="http://schemas.openxmlformats.org/officeDocument/2006/relationships/hyperlink" Target="310,12,&#24187;&#28783;&#29255; 12" TargetMode="External"/><Relationship Id="rId5" Type="http://schemas.openxmlformats.org/officeDocument/2006/relationships/hyperlink" Target="328,15,&#24187;&#28783;&#29255; 15" TargetMode="External"/><Relationship Id="rId6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.wmf"/><Relationship Id="rId10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47560" y="2515680"/>
            <a:ext cx="7086600" cy="6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化学反应速率和活化能的测定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2895480" y="3352680"/>
            <a:ext cx="32767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2010.10 ~ 2010.12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237AC706-47AA-4E9D-B644-1C749D8BAB9C}" type="datetime3">
              <a:rPr lang="en-US"/>
              <a:t>July 31, 2026</a:t>
            </a:fld>
          </a:p>
        </p:txBody>
      </p:sp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520" y="-385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82296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温度对反应速率的影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按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-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实验序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用量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 , Na2S2O3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3 , (NH4)2SO4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和淀粉溶液，加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0 m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锥形瓶中，摇匀，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H4)2S2O8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溶液加入大试管中，分别插入两支温度计，并将它们放在冰水浴中冷却。待温度计读数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时，按上述实验相同方法，记录反应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所需的时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再按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-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实验序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用量，在恒温水浴上分别做比室温低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高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实验，加上室温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可以测得五种温度下的反应时间，将结果填入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-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57200" y="689040"/>
            <a:ext cx="8229600" cy="543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表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-2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温度对反应速率的影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143000" y="1981080"/>
          <a:ext cx="7162920" cy="1860480"/>
        </p:xfrm>
        <a:graphic>
          <a:graphicData uri="http://schemas.openxmlformats.org/drawingml/2006/table">
            <a:tbl>
              <a:tblPr/>
              <a:tblGrid>
                <a:gridCol w="1857240"/>
                <a:gridCol w="1108080"/>
                <a:gridCol w="1101960"/>
                <a:gridCol w="1031760"/>
                <a:gridCol w="1031760"/>
                <a:gridCol w="1032120"/>
              </a:tblGrid>
              <a:tr h="620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实验序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反应温度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反应时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533520" y="-385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520" y="-385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82296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催化剂对反应速率的影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按照实验编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用量，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 , Na2S2O3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3 , (NH4)2SO4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和淀粉溶液中加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02 mol·L-1  Cu(NO3)2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溶液，然后再与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H4)2S2O8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溶液混合，记录反应时间，与编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时间相对比可得到什么结论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458640" y="689040"/>
            <a:ext cx="838368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四、数据记录及处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求反应速率常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表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-3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数据处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533520" y="-385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457200" y="1905120"/>
          <a:ext cx="8305920" cy="4394160"/>
        </p:xfrm>
        <a:graphic>
          <a:graphicData uri="http://schemas.openxmlformats.org/drawingml/2006/table">
            <a:tbl>
              <a:tblPr/>
              <a:tblGrid>
                <a:gridCol w="2692440"/>
                <a:gridCol w="1138320"/>
                <a:gridCol w="1249200"/>
                <a:gridCol w="1111320"/>
                <a:gridCol w="1109520"/>
                <a:gridCol w="1005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实 验 编 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液体总体积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m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反应时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反应速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取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正整数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取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正整数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反应速率常数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(       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 (       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204" name=""/>
          <p:cNvGrpSpPr/>
          <p:nvPr/>
        </p:nvGrpSpPr>
        <p:grpSpPr>
          <a:xfrm>
            <a:off x="1143000" y="2792520"/>
            <a:ext cx="1371240" cy="3504960"/>
            <a:chOff x="1143000" y="2792520"/>
            <a:chExt cx="1371240" cy="3504960"/>
          </a:xfrm>
        </p:grpSpPr>
        <p:pic>
          <p:nvPicPr>
            <p:cNvPr id="205" name="" descr=""/>
            <p:cNvPicPr/>
            <p:nvPr/>
          </p:nvPicPr>
          <p:blipFill>
            <a:blip r:embed="rId2"/>
            <a:stretch/>
          </p:blipFill>
          <p:spPr>
            <a:xfrm>
              <a:off x="1371600" y="2792520"/>
              <a:ext cx="99072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" descr=""/>
            <p:cNvPicPr/>
            <p:nvPr/>
          </p:nvPicPr>
          <p:blipFill>
            <a:blip r:embed="rId3"/>
            <a:stretch/>
          </p:blipFill>
          <p:spPr>
            <a:xfrm>
              <a:off x="1371600" y="3097080"/>
              <a:ext cx="990720" cy="22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" descr=""/>
            <p:cNvPicPr/>
            <p:nvPr/>
          </p:nvPicPr>
          <p:blipFill>
            <a:blip r:embed="rId4"/>
            <a:stretch/>
          </p:blipFill>
          <p:spPr>
            <a:xfrm>
              <a:off x="2286000" y="3478680"/>
              <a:ext cx="228240" cy="22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" descr=""/>
            <p:cNvPicPr/>
            <p:nvPr/>
          </p:nvPicPr>
          <p:blipFill>
            <a:blip r:embed="rId5"/>
            <a:stretch/>
          </p:blipFill>
          <p:spPr>
            <a:xfrm>
              <a:off x="2286000" y="3859920"/>
              <a:ext cx="228240" cy="22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" descr=""/>
            <p:cNvPicPr/>
            <p:nvPr/>
          </p:nvPicPr>
          <p:blipFill>
            <a:blip r:embed="rId6"/>
            <a:stretch/>
          </p:blipFill>
          <p:spPr>
            <a:xfrm>
              <a:off x="1371600" y="4241520"/>
              <a:ext cx="761760" cy="22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" descr=""/>
            <p:cNvPicPr/>
            <p:nvPr/>
          </p:nvPicPr>
          <p:blipFill>
            <a:blip r:embed="rId7"/>
            <a:stretch/>
          </p:blipFill>
          <p:spPr>
            <a:xfrm>
              <a:off x="1371600" y="4621680"/>
              <a:ext cx="83808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" descr=""/>
            <p:cNvPicPr/>
            <p:nvPr/>
          </p:nvPicPr>
          <p:blipFill>
            <a:blip r:embed="rId8"/>
            <a:stretch/>
          </p:blipFill>
          <p:spPr>
            <a:xfrm>
              <a:off x="2057400" y="5688720"/>
              <a:ext cx="228600" cy="25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" descr=""/>
            <p:cNvPicPr/>
            <p:nvPr/>
          </p:nvPicPr>
          <p:blipFill>
            <a:blip r:embed="rId9"/>
            <a:stretch/>
          </p:blipFill>
          <p:spPr>
            <a:xfrm>
              <a:off x="1143000" y="5993280"/>
              <a:ext cx="228600" cy="304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520" y="-385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反应活化能的计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表 </a:t>
            </a:r>
            <a:r>
              <a:rPr b="0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4-4 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数据处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611280" y="2209680"/>
          <a:ext cx="7848360" cy="2286000"/>
        </p:xfrm>
        <a:graphic>
          <a:graphicData uri="http://schemas.openxmlformats.org/drawingml/2006/table">
            <a:tbl>
              <a:tblPr/>
              <a:tblGrid>
                <a:gridCol w="2436480"/>
                <a:gridCol w="1066680"/>
                <a:gridCol w="1143000"/>
                <a:gridCol w="1041480"/>
                <a:gridCol w="1092240"/>
                <a:gridCol w="1068480"/>
              </a:tblGrid>
              <a:tr h="40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实 验 编 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反应速率常数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(         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g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反应活化能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(         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1600200" y="3581280"/>
            <a:ext cx="60948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-385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82296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五、思考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实验中为什么可以由反应出现蓝色的时间长短来计算反应速率？反应溶液出现蓝色后，反应是否就终止了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Na2S2O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用量过多或过少，对实验结果有何影响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为什么在实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中，分别加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H4)2SO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溶液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H4)2S2O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加入时，计时与搅拌未同时进行，会对实验结果有何影响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2S2O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淀粉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H4)2SO4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混合均匀后，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H4)2S2O8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溶液倒入上述混合液时，为什么必须快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520" y="-385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82296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【注意事项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溶液应为无色透明溶液，不宜使用有碘析出的浅黄色溶液。一般应在实验前配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溶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H4)2S2O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溶液要新配制的，因为时间长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H4)2S2O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会分解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H4)2S2O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溶液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值应大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否则表明该试剂已有分解，不适合本实验使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ⅲ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所用试剂如混有少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2+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3+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等杂质，对反应有催化作用，必要时加入几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1 mol∙L-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T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溶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ⅳ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溶液浓度要精确到两位有效数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ⅴ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本实验成败的关键之一是所用溶液浓度要准确，因此各试剂的取用要“专管专用”，不要污染试剂，从而改变试剂的浓度，倒出的溶液不允许倒回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ⅵ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本实验二人一组合作完成，实验原始数据共用，但实验报告（包括数据处理、作图）要求每个人独立完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结束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实验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4  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化学反应速率和活化能的测定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2590920" y="3200040"/>
            <a:ext cx="5943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</a:rPr>
              <a:t>实验目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实验原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实验步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数据记录与处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思考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实验目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了解浓度、温度和催化剂对反应速率的影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掌握测定过二硫酸铵与碘化钾反应的平均速率、反应级数、速率常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掌握通过作图法处理实验数据的方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、实验原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在水溶液中过二硫酸铵与碘化钾发生如下反应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该反应的平均速率方程可表示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式中：为反应的平均速率，为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Δt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时间内浓度的变化，和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[I]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分别为和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I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的起始浓度，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k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为该反应的速率常数，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m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n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分别为反应物和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I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的反应级数，（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m + n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为反应的总级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2209680" y="1828800"/>
            <a:ext cx="4876920" cy="6969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2133720" y="2971800"/>
            <a:ext cx="4800600" cy="107784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686880"/>
            <a:ext cx="823104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为了测出反应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Δ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时间内浓度的改变量，需要在混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NH4)2S2O8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K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溶液的同时，加入一定体积已知浓度的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Na2S2O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溶液和作为指示剂的淀粉溶液，这样在反应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进行的同时还进行着另一反应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反应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几乎是瞬间完成，反应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比反应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慢得多。因此，反应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生成的      与    反应，产物无色，所以观察不到碘与淀粉作用所呈现的特征蓝色。当      耗尽，反应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还在继续进行，生成的微量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遇淀粉立即呈蓝色，标志着反应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的完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533520" y="-385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447920" y="2666880"/>
          <a:ext cx="6019560" cy="81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2666880"/>
                    <a:ext cx="6019560" cy="8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7924680" y="3765600"/>
          <a:ext cx="533520" cy="757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924680" y="3765600"/>
                    <a:ext cx="533520" cy="75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7162920" y="3809880"/>
          <a:ext cx="380880" cy="674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162920" y="3809880"/>
                    <a:ext cx="38088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3429000" y="4648320"/>
          <a:ext cx="533520" cy="757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29000" y="4648320"/>
                    <a:ext cx="533520" cy="75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7200" y="689040"/>
            <a:ext cx="8229600" cy="543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从反应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和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的计量关系可见，浓度的变化量等于浓度变化量的一半，即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若起始浓度相同，总体积一定，则             亦不变。因此，只要记下从反应开始到溶液出现蓝色所需要的时间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Δ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就可以计算出反应的平均速率（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533520" y="-385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2286000" y="1828800"/>
                <a:ext cx="380700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Sup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2</m:t>
                        </m:r>
                        <m:r>
                          <m:t xml:space="preserve">−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685800" y="3200400"/>
                <a:ext cx="7621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6781680" y="3200400"/>
                <a:ext cx="11066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Sup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2</m:t>
                        </m:r>
                        <m:r>
                          <m:t xml:space="preserve">−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838080" y="4419720"/>
                <a:ext cx="38124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Sup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8</m:t>
                        </m:r>
                      </m:sub>
                      <m:sup>
                        <m:r>
                          <m:t xml:space="preserve">2</m:t>
                        </m:r>
                        <m:r>
                          <m:t xml:space="preserve">−</m:t>
                        </m:r>
                      </m:sup>
                    </m:sSubSup>
                    <m:r>
                      <m:t xml:space="preserve">]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Sup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</m:sup>
                        </m:sSubSup>
                        <m:r>
                          <m:t xml:space="preserve">]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689040"/>
            <a:ext cx="8229600" cy="543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根据反应速率方程可计算出反应级数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反应速率常数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再根据阿伦尼乌斯公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lg</a:t>
            </a:r>
            <a:r>
              <a:rPr b="0" i="1" lang="zh-CN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                  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lg</a:t>
            </a:r>
            <a:r>
              <a:rPr b="0" i="1" lang="zh-CN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式中：</a:t>
            </a:r>
            <a:r>
              <a:rPr b="0" i="1" lang="zh-CN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为反应速率常数，</a:t>
            </a:r>
            <a:r>
              <a:rPr b="0" i="1" lang="zh-CN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为反应活化能，</a:t>
            </a:r>
            <a:r>
              <a:rPr b="0" i="1" lang="zh-CN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为气体常数，</a:t>
            </a:r>
            <a:r>
              <a:rPr b="0" i="1" lang="zh-CN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为绝对温度，</a:t>
            </a:r>
            <a:r>
              <a:rPr b="0" i="1" lang="zh-CN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为一常数，称为指前因子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为自然对数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以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lg </a:t>
            </a:r>
            <a:r>
              <a:rPr b="0" i="1" lang="zh-CN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对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/</a:t>
            </a:r>
            <a:r>
              <a:rPr b="0" i="1" lang="zh-CN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作图，得一直线，斜率为          ，截距为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lg</a:t>
            </a:r>
            <a:r>
              <a:rPr b="0" i="1" lang="zh-CN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由直线的斜率可求出反应的活化能</a:t>
            </a:r>
            <a:r>
              <a:rPr b="0" i="1" lang="zh-CN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2362320" y="2286000"/>
          <a:ext cx="1619280" cy="914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2286000"/>
                    <a:ext cx="161928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533520" y="-385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7162920" y="4238640"/>
          <a:ext cx="1218960" cy="776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162920" y="4238640"/>
                    <a:ext cx="121896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3520" y="-385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82296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三、实验步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浓度对反应速率的影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⑴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在室温下，按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-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所示的用量用量筒分别准确量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 , Na2S2O3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3 , (NH4)2SO4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和淀粉溶液，加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0m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锥形瓶中，摇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⑵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用量筒准确量取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H4)2S2O8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溶液快速加入锥形瓶中，同时立即用秒表计时并摇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⑶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当溶液刚出现蓝色时，立即停止计时，将反应时间记入表格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⑷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实验编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溶液中加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3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或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H4)2SO4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是为了保持反应液总体积和离子强度相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57200" y="68904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表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-1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浓度对反应速率的影响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反应温度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533520" y="-385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752480"/>
          <a:ext cx="7848720" cy="3284640"/>
        </p:xfrm>
        <a:graphic>
          <a:graphicData uri="http://schemas.openxmlformats.org/drawingml/2006/table">
            <a:tbl>
              <a:tblPr/>
              <a:tblGrid>
                <a:gridCol w="2035080"/>
                <a:gridCol w="1216080"/>
                <a:gridCol w="1206720"/>
                <a:gridCol w="1130040"/>
                <a:gridCol w="1130400"/>
                <a:gridCol w="1130400"/>
              </a:tblGrid>
              <a:tr h="409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实验序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NH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m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I/m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m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淀粉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m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O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m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NH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m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反应时间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5T11:44:26Z</dcterms:created>
  <dc:creator>Samaria</dc:creator>
  <dc:description>化学与药学系实验中心ppt模版</dc:description>
  <dc:language>en-US</dc:language>
  <cp:lastModifiedBy>user</cp:lastModifiedBy>
  <dcterms:modified xsi:type="dcterms:W3CDTF">2010-12-20T06:18:49Z</dcterms:modified>
  <cp:revision>24</cp:revision>
  <dc:subject>ppt模版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  <property fmtid="{D5CDD505-2E9C-101B-9397-08002B2CF9AE}" pid="3" name="Version">
    <vt:r8>1</vt:r8>
  </property>
  <property fmtid="{D5CDD505-2E9C-101B-9397-08002B2CF9AE}" pid="4" name="办公室">
    <vt:r8>403</vt:r8>
  </property>
  <property fmtid="{D5CDD505-2E9C-101B-9397-08002B2CF9AE}" pid="5" name="编辑">
    <vt:lpwstr>Zhrl</vt:lpwstr>
  </property>
</Properties>
</file>