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640" indent="528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40" indent="5284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660-18B0-4EBE-BF29-86ECFD7E05B6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72200" y="15228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氧化还原反应与电化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54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461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461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0" y="3504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157680" indent="-1576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2286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44F-E23D-4DC4-90AB-DC73984C5FE2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6400800"/>
            <a:ext cx="3810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实验中心网站：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hx.jluzh.com/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3"/>
          </p:nvPr>
        </p:nvSpPr>
        <p:spPr>
          <a:xfrm>
            <a:off x="8381880" y="65415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273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6D8-30D3-48C1-B0F4-7285B7C7D1BE}" type="slidenum">
              <a:rPr b="0" lang="en-US" sz="1400" spc="-1" strike="noStrike">
                <a:solidFill>
                  <a:srgbClr val="e273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89320" y="15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b6767"/>
                </a:solidFill>
                <a:latin typeface="Arial"/>
                <a:ea typeface="楷体_GB2312"/>
              </a:rPr>
              <a:t>氧化还原和电极电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477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b6767"/>
                </a:solidFill>
                <a:latin typeface="Arial"/>
                <a:ea typeface="楷体"/>
              </a:rPr>
              <a:t>自定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300,4,&#24187;&#28783;&#29255; 4" TargetMode="External"/><Relationship Id="rId3" Type="http://schemas.openxmlformats.org/officeDocument/2006/relationships/hyperlink" Target="305,7,&#24187;&#28783;&#29255; 7" TargetMode="External"/><Relationship Id="rId4" Type="http://schemas.openxmlformats.org/officeDocument/2006/relationships/hyperlink" Target="310,10,&#24187;&#28783;&#29255; 10" TargetMode="External"/><Relationship Id="rId5" Type="http://schemas.openxmlformats.org/officeDocument/2006/relationships/hyperlink" Target="318,12,&#24187;&#28783;&#29255; 12" TargetMode="External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515680"/>
            <a:ext cx="701028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氧化还原与电化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352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10.10 ~ 2010.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8B453E9-E7F9-428E-8E4F-D569AFF3727B}" type="datetime3">
              <a:rPr lang="en-US"/>
              <a:t>July 31, 2026</a:t>
            </a:fld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689040"/>
            <a:ext cx="464976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盛的烧杯中边搅拌边滴加浓氨水，直至沉淀完全溶解，与另一未加浓氨水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Z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极组成原电池，测量该原电池的电动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烧杯中边搅拌边滴加浓氨水，直至沉淀完全溶解，与另一未加浓氨水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极组成原电池，测量该原电池的电动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520" y="1143000"/>
            <a:ext cx="3441600" cy="3124080"/>
            <a:chOff x="5105520" y="1143000"/>
            <a:chExt cx="3441600" cy="312408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5105520" y="1143000"/>
              <a:ext cx="34416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736960" y="3571920"/>
              <a:ext cx="246276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原电池示意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8640" y="686880"/>
            <a:ext cx="8383680" cy="16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数据记录及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考实验课本     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影响电极电势的因素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氧化还原反应进行的方向由什么因素决定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注意事项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6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醋酸解离度和解离常数的测定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90920" y="32000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数据记录与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实验掌握电极电势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反应物浓度对氧化还原反应的影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并了解氧化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原态浓度的变化对电极电势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d2b17"/>
                </a:solidFill>
                <a:latin typeface="Arial"/>
              </a:rPr>
              <a:t>对于一给定电极反应：</a:t>
            </a:r>
            <a:r>
              <a:rPr b="0" lang="en-US" sz="3200" spc="-1" strike="noStrike">
                <a:solidFill>
                  <a:srgbClr val="8d2b17"/>
                </a:solidFill>
                <a:latin typeface="Arial"/>
              </a:rPr>
              <a:t>Ox+ne </a:t>
            </a:r>
            <a:r>
              <a:rPr b="0" lang="en-US" sz="3200" spc="-1" strike="noStrike">
                <a:solidFill>
                  <a:srgbClr val="8d2b17"/>
                </a:solidFill>
                <a:latin typeface="Arial"/>
                <a:ea typeface="Lucida Sans Unicode"/>
              </a:rPr>
              <a:t>⇌</a:t>
            </a:r>
            <a:r>
              <a:rPr b="0" lang="en-US" sz="3200" spc="-1" strike="noStrike">
                <a:solidFill>
                  <a:srgbClr val="8d2b17"/>
                </a:solidFill>
                <a:latin typeface="Arial"/>
              </a:rPr>
              <a:t> Red</a:t>
            </a:r>
            <a:r>
              <a:rPr b="0" lang="zh-CN" sz="3200" spc="-1" strike="noStrike">
                <a:solidFill>
                  <a:srgbClr val="8d2b17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一定温度下，电极电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越大，则该电对中氧化态的氧化能力越强；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越小，则其还原态的还原能力越强。通过比较两电对的电极电势，可判断该氧化还原反应进行的方向：任一氧化还原反应自发进行的方向，总是由两电对中电极电势较高的氧化态氧化电极电势较低的还原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906560" y="2057400"/>
            <a:ext cx="6081840" cy="841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实验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电极电势与氧化还原反应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取溶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滴，加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滴，混匀，加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滴，充分振荡，观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层的颜色变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代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，进行上述同样实验，反应能否发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否有明显变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别用饱和碘水和饱和溴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滴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滴作用，振荡，观察溶液是否褪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以上实验，定性比较三电对的电极电势相对大小，并从教材上查表比较，以此说明电极电势与氧化还原反应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89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介质酸度对氧化还原反应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取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FeSO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溶液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滴，加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邻菲咯啉溶液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滴，振荡，待溶液变为桔红色后，加入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KClO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溶液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4~5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滴，有无变化？再边振荡边滴加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 H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SO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有何变化？在这一氧化还原反应中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SO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起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在两支各盛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滴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0.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KBr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溶液的试管中，分别加入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滴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 H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SO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溶液和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HAc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溶液，然后往这两支试管中各加入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1-2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滴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c0b0a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c0b0a"/>
                </a:solidFill>
                <a:latin typeface="Arial"/>
              </a:rPr>
              <a:t> KMnO</a:t>
            </a:r>
            <a:r>
              <a:rPr b="0" lang="en-US" sz="2400" spc="-1" strike="noStrike" baseline="-30000">
                <a:solidFill>
                  <a:srgbClr val="0c0b0a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c0b0a"/>
                </a:solidFill>
                <a:latin typeface="Arial"/>
              </a:rPr>
              <a:t>溶液，振摇，比较两溶液褪色的快慢。写出反应方程式并作简要解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小试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，各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再分别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蒸馏水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摇匀后再各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/LKM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观察现象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酸性、中性、碱性介质中的还原产物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上述反应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6880"/>
            <a:ext cx="8229600" cy="54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b0a"/>
                </a:solidFill>
                <a:latin typeface="Arial"/>
              </a:rPr>
              <a:t>3-1 </a:t>
            </a:r>
            <a:r>
              <a:rPr b="0" lang="zh-CN" sz="2800" spc="-1" strike="noStrike">
                <a:solidFill>
                  <a:srgbClr val="0c0b0a"/>
                </a:solidFill>
                <a:latin typeface="Arial"/>
              </a:rPr>
              <a:t>浓度对氧化还原产物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两支装有少量锌粒的试管分别加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液，比较二者所发生的现象，并用气室检验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原的产物中是否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d2b17"/>
                </a:solidFill>
                <a:latin typeface="Arial"/>
              </a:rPr>
              <a:t>方程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Zn+4HNO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8d2b17"/>
                </a:solidFill>
                <a:latin typeface="Arial"/>
              </a:rPr>
              <a:t>浓</a:t>
            </a:r>
            <a:r>
              <a:rPr b="0" lang="zh-CN" sz="2400" spc="-1" strike="noStrike">
                <a:solidFill>
                  <a:srgbClr val="8d2b17"/>
                </a:solidFill>
                <a:latin typeface="Arial"/>
              </a:rPr>
              <a:t>)=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Zn(NO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)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+2NO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d2b17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+2H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Zn+10HNO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8d2b17"/>
                </a:solidFill>
                <a:latin typeface="Arial"/>
              </a:rPr>
              <a:t>稀</a:t>
            </a:r>
            <a:r>
              <a:rPr b="0" lang="zh-CN" sz="2400" spc="-1" strike="noStrike">
                <a:solidFill>
                  <a:srgbClr val="8d2b17"/>
                </a:solidFill>
                <a:latin typeface="Arial"/>
              </a:rPr>
              <a:t>)=4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Zn(NO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)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+NH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NO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+3H</a:t>
            </a:r>
            <a:r>
              <a:rPr b="0" lang="en-US" sz="2400" spc="-1" strike="noStrike" baseline="-30000">
                <a:solidFill>
                  <a:srgbClr val="8d2b1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d2b17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70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90480"/>
            <a:ext cx="46483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4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烧杯中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插入一铜片组成一电极，在另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烧杯中加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·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溶液并插入一锌片组成另一电极，用盐桥将两烧杯中溶液连接起来，构成一原电池。将伏特计连接并测量该原电池两极间的电势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电池的电动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30880" y="69516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-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浓度对电极电势及电池电动势的影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105520" y="1600200"/>
            <a:ext cx="3441600" cy="3124080"/>
            <a:chOff x="5105520" y="1600200"/>
            <a:chExt cx="3441600" cy="31240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105520" y="1600200"/>
              <a:ext cx="34416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36960" y="4029120"/>
              <a:ext cx="246276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原电池示意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1:44:26Z</dcterms:created>
  <dc:creator>Samaria</dc:creator>
  <dc:description>化学与药学系实验中心ppt模版</dc:description>
  <dc:language>en-US</dc:language>
  <cp:lastModifiedBy>user</cp:lastModifiedBy>
  <dcterms:modified xsi:type="dcterms:W3CDTF">2010-12-20T06:18:49Z</dcterms:modified>
  <cp:revision>24</cp:revision>
  <dc:subject>ppt模版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  <property fmtid="{D5CDD505-2E9C-101B-9397-08002B2CF9AE}" pid="4" name="办公室">
    <vt:r8>403</vt:r8>
  </property>
  <property fmtid="{D5CDD505-2E9C-101B-9397-08002B2CF9AE}" pid="5" name="编辑">
    <vt:lpwstr>Zhrl</vt:lpwstr>
  </property>
</Properties>
</file>