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984-3EF0-4E9A-8C32-64CF3093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E37-8F1D-4913-BAAD-EE8F9ADA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FBE-3A37-4D63-9545-36D84854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A8B-2301-4ABF-9C0D-49C988F2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5361-A65E-4CDC-883E-E8131F54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92E3-02CD-4F8C-8255-7451302E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F2D7-53AB-495C-A2B6-6676055D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ACC9-B06D-4F52-B00B-8E09EB03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7ECC-06BD-426D-A3EC-D02ECF84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5396-1124-4EEA-A7BB-A5933064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970E-99A2-4BC1-B364-EC78148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B4C-1AA6-4420-BDE2-B2691B99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F653-5ED9-4D11-B0CD-DD5EF863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BB15-B09B-4507-9B6B-7AA0A1A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C788-C68B-43D2-A586-7F86433A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A192-DCDB-4236-B9E1-AD427536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031-52F8-40C9-AC9C-6B455378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825-06B2-44D1-91EB-55B1325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001-E701-4537-A6F0-8B81141C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418-4751-421A-B1D4-6D9E12DD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CE7-F1BB-4001-9B85-CE493A45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CEE-39CD-46CD-8BD4-24623BB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4F9-C88F-497F-8C84-80181A1F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320-3247-4E90-9F79-CA57F9D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23B2-3FA8-4493-995D-CB77469C9FF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C6B-38CB-467D-830A-7BA5B4A37E7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四、叶类、花类中药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银花：花粉粒黄色，球形，外壁具细刺状突起，萌发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红花、槐米、菊花、款冬花、蒲黄、旋复花药材性状鉴别要点，根据预习好的叶类、花类中药性状鉴别要点进行辨认，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进行随堂抽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预习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叶类、花类中药性状鉴别要点（请于实验前详细地写在预习报告上，作为预习报告的一部分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番泻叶、松花粉、蒲黄、金银花粉的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悉叶类、花类中药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红花、槐米、菊花、款冬花、蒲黄、旋复花药材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性状鉴定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性状的系统观察和描述，确定其性状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微鉴定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组织或粉末显微特征的系统观察和描述，确定其显微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仪器、材料与试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材料——实验用药材及饮片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番泻叶、松花粉、蒲黄、金银花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横切面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内容及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番泻叶横切面永久制片，并绘出其显微鉴别横切面简图（标注各部分结构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松花粉、蒲黄、金银花粉粉末永久制片，并绘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各花粉粒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微特征图（标注显微特征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红花、槐米、菊花、款冬花、蒲黄、旋复花药材性状鉴别要点，写出叶类、花类中药共同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番泻叶横切面永久制片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永久切片，在低倍镜下由外向内依次观察，后含物的特征可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倍镜下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番泻叶横切片：观察上下表皮（含气孔、非腺毛）、叶肉组织（栅栏组织、海绵组织）、主脉维管束（纤维束（晶纤维）），绘简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参考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6934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松花粉、蒲黄、金银花粉的粉末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松花粉：花粉粒椭圆形，表面光滑或具细密颗粒状纹理；两侧各有一膨大的气囊，气囊具网状纹理，网眼多角形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蒲黄：花粉粒黄色，，形状呈类圆形、长圆形、椭圆形或广卵圆形，表面有网状雕纹，边缘轮廓光滑，单萌发孔，不明显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1-28T00:38:4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