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0DD-E674-4280-94B3-45808E6E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27D-C342-49AF-ABCA-41F1B8A1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5C7-D634-4BC0-BFCC-7FC1CF0B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AAD-84C6-4591-8347-415C6489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6B5D-9A49-43F3-8A92-D537114F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94C4-3978-410B-8B7C-EC21C812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1DF4-7665-4026-92A6-F83AB6FA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17C5-997B-4926-AF24-5393B20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C7E8-2C51-4D56-892C-5D08F00F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171-A38F-4973-9741-5C1FCF9E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D7A-4FAC-4237-84FA-E8016D2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F29-A72E-44AF-86ED-D4F8E5B2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0CE-A1B0-4371-98CC-14B34BD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7F0-C22C-4F74-8CD9-21CD679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04A-8C6E-4798-B845-29DDFB8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0A44-7BE3-43B1-A46A-73912C08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D863-5CA8-485F-9B13-6F1EF859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DE3-FC91-4BDA-A5E2-73493E60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203-B2E3-41ED-8431-40C77B3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C67-9C05-4DDC-A8CE-3C0D12A4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3DD-E132-4025-B3FF-A566E81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7D3-7FE0-44C9-93A5-1AE0DCD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6DB-380F-4F3A-A162-9DD8592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89-7E99-48BA-9910-B5E0093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D9C-794A-422D-806A-55ED1831C4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A56-16CD-4683-BDBB-273BFA74C82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六 全草类中药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麻黄、马齿苋、肉苁蓉、细辛、益母草、茵陈、淫羊藿、败酱草、广地丁、薄荷、广藿香、蒲公英药材性状鉴别要点，根据预习好的全草类中药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全草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全草类中药麻黄、薄荷、茵陈的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全草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麻黄、马齿苋、肉苁蓉、细辛、益母草、茵陈、淫羊藿、败酱草、广地丁、薄荷、广藿香、蒲公英药材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性状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麻黄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麻黄横切面，并绘出麻黄显微鉴别横切面简图（标注各部分结构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麻黄、薄荷、茵陈粉末装片，并绘出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麻黄、马齿苋、肉苁蓉、细辛、益母草、茵陈、淫羊藿、败酱草、广地丁、薄荷、广藿香、蒲公英药材性状鉴别要点，写出全草类中药共同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麻黄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麻黄横切片：观察表皮细胞、下皮纤维束、皮层、中柱鞘纤维、维管束、形成层、木质部、髓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制作的麻黄、薄荷、茵陈的粉末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麻黄：观察表皮细胞及气孔、角质层突起部分、纤维、皮层薄壁细胞、棕色块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薄荷：观察腺鳞，表皮细胞及气孔、小腺毛、非腺毛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茵陈：观察表皮细胞及气孔、腺毛、丁字形非腺毛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07:39:25Z</dcterms:created>
  <dc:creator>sony</dc:creator>
  <dc:description/>
  <dc:language>en-US</dc:language>
  <cp:lastModifiedBy>微软用户</cp:lastModifiedBy>
  <dcterms:modified xsi:type="dcterms:W3CDTF">2011-11-28T00:39:5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