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2B3-65A0-44A4-BF74-ED3C5824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38C-29CE-4CCF-BC42-2A915600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301-52B5-449D-A077-FB0C2B64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7F4-614A-4124-8E6B-F0B6F98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4873-B669-49FC-B8D8-2B967386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604-E9BB-4085-A37E-3879B6E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A9B0-2D4D-4B21-A42F-9B61A728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D1C6-C1F0-4DFD-A20E-DF3D57C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931F-CBEF-4B9B-9DE3-058CF2E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E41E-4F59-4F2A-A833-8E1B8DFB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31C0-40FE-4782-A4CB-1140EA5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148-928B-463B-8C38-8F3260E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EA1C-651D-4209-87D2-BE8DB5A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055A-94A4-4F1E-8F30-49A45FD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68F6-1BE5-4149-8F49-96BDF95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A4C3-881D-4045-8A1C-53FFB16D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502-E674-45E6-8BD3-A21F0BD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48E-C051-4D93-B18F-3177032E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F91-9912-44DF-810F-D1ABB5BF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EC2-330A-48F0-8662-B8ACF23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2B4-5152-46D7-B83E-03C33F48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CBF-89A1-4D8F-A96B-83C9C44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207-D9D5-493B-98B2-36A5210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617-48C5-49C8-8D5A-21C1FDF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609F-37C8-4B16-8693-A49FA1F894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CF37-49D4-413C-BE93-227CE01F557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七 菌类、树脂类及其他类中药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制作的茯苓、猪苓粉末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茯苓：先用稀甘油装片，观察无色不规则颗粒状或分枝状团块；再用水合氯醛装片，团块溶化露出菌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猪苓：用稀甘油装片，观察菌丝、草酸钙结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乳香、没药、猪苓、茯苓、海金沙、青黛、冰片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预习菌类、树脂类、其他类中药的概念，以及主要包括哪些常见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菌类中药茯苓、猪苓的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菌类、其他类中药的性状及理化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乳香、没药、猪苓、茯苓、海金沙、青黛、冰片的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状鉴定  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微鉴定  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化鉴定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利用某些物理的、化学的或仪器分析方法，鉴定中药的真实性、纯度和品质优劣程度，统称为理化鉴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海金沙、青黛的理化鉴别现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茯苓、猪苓粉末装片，并绘出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乳香、没药、猪苓、茯苓、海金沙、青黛、冰片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海金沙、青黛的理化鉴别现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海金沙火试鉴别现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金沙呈棕黄色粉末状；撒于火上易燃烧并发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轻微爆鸣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伴有闪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类似于烟花燃烧的火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青黛的理化鉴别现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试：取适量置于塑料试管中，加水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ml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振摇后放置片刻，水层不得显深蓝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火试：取青黛少量置于载玻片上，移于火焰上方加热片刻，有紫红色烟雾产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硝酸试：取少量置于塑料试管中，滴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滴硝酸，有气泡产生，并显棕红色或黄棕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22:14:57Z</dcterms:created>
  <dc:creator>sony</dc:creator>
  <dc:description/>
  <dc:language>en-US</dc:language>
  <cp:lastModifiedBy>微软用户</cp:lastModifiedBy>
  <dcterms:modified xsi:type="dcterms:W3CDTF">2011-11-28T00:40:0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