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A2F-CDDC-4483-ABD6-9E9D70D7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645-6C67-4BC8-A583-48123C52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9F8-81C4-407C-9B6C-9CF4AE0D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8B5-83FB-46A3-BE3F-7066106C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7C07-D38E-4AB3-8F36-61F758BE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AAFE-E1E4-4221-B327-C420B05B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147D-B35A-4298-8CBD-DC6A687C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3DA8-3A4B-4321-90B6-6A3E08FA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240C-5D59-4FDA-9F88-1B13DBEC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84BC-6FC6-4472-B458-3D2E5D07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BEC2-801F-4E58-99A9-2F512775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779-CE27-49DE-94BA-514BDB62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ADD8-C0D3-4FC4-BEC2-BE93A7F2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40EF-11A2-48C6-AA4E-C71F42AD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3844-F6BF-48E3-A68A-534DC790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51DE-2FF0-41AC-B209-DB36CBEB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2A92-905F-4CC8-AD3B-422997F5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D70-6DB3-445C-B362-6DD28C9A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967-A9C6-4063-8384-6238D922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7CF-7277-46AF-932B-68ACFB88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A2D-AE73-4C2F-A1EF-6CAAF395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95A-3334-44D4-A1D8-453ED28E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00E-1F7F-472F-833C-57402EC4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A6C-8492-479A-B9C2-470651BE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9C4E-2F41-4DAA-91B0-DBA0FCDBF63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B264-C488-4295-BC0A-954E711F6A5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实验五 果实、种子类中药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火麻仁、连翘、牛蒡子、肉豆蔻、砂仁、蛇床子、桃仁、吴茱萸、益智、丁香、小茴香、槟榔、木瓜、山楂药材性状鉴别要点，根据预习好的果实、种子类中药性状鉴别要点进行辨认，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进行随堂抽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预习作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果实、种子类中药性状鉴别要点（请于实验前详细地写在预习报告上，作为预习报告的一部分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掌握小茴香、马钱子、五味子、苦杏仁粉的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熟悉果实、种子类中药的性状及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火麻仁、连翘、牛蒡子、肉豆蔻、砂仁、蛇床子、桃仁、吴茱萸、益智、丁香、小茴香、槟榔、木瓜、山楂药材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原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性状鉴定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性状的系统观察和描述，确定其性状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显微鉴定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组织或粉末显微特征的系统观察和描述，确定其显微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仪器、材料与试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仪器——生物显微镜、镊子、载玻片、盖玻片、酒精灯，放大镜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材料——实验用药材及饮片；小茴香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马钱子粉末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横切面永久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试剂——水合氯醛试液、稀甘油试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内容及要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小茴香横切面、马钱子粉末永久制片，并绘出小茴香显微鉴别横切面简图（标注各部分结构名称）及马钱子粉末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作五味子、苦杏仁粉末装片，并绘出显微特征图（标注显微特征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火麻仁、连翘、牛蒡子、肉豆蔻、砂仁、蛇床子、桃仁、吴茱萸、益智、丁香、小茴香、槟榔、木瓜、山楂药材性状鉴别要点，写出果实、种子类中药共同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步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茴香横切面永久制片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永久切片，在低倍镜下由外向内依次观察，后含物的特征可在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倍镜下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茴香横切片：观察果皮（外果皮、中果皮、内果皮）、种皮、胚乳，绘简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马钱子粉末永久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马钱子粉末：灰黄色，含有大量的非腺毛单细胞，细胞壁厚，强木化；胚乳细胞多角形，壁厚，内含糊粉粒及脂肪油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制作的五味子、苦杏仁的粉末永久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味子：观察果皮表皮细胞、种皮内外层石细胞、种皮油细胞、螺纹导管、胚乳细胞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苦杏仁：观察种皮石细胞，种皮外表皮薄壁细胞、子叶细胞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1-28T00:39:26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