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01A-CE9F-433B-9CC1-480B41B5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DB2-7851-491D-A01F-19589FC4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658-B20D-43A4-ABCF-606CF454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79E-33C2-4021-AFD9-BFD1B051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3EA9-33C4-49AC-B849-8A52C7C3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99C-B5EA-4E88-84BA-159F67F4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CF6-15B4-4121-BC8F-1E19E70B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D69D-EA7B-41B3-B739-60FE8CEC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A79-3600-4172-A979-6158F42C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A809-AC1B-42D5-B822-57554305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92FA-6EEA-4B00-B435-673186A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9C5-2E0D-4F38-9508-D750F7D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942-52A4-4AFB-8240-E1737A3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C77A-BF5A-4BCA-8D0B-0E71FAF4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C3E-9234-454D-B0B2-592F64D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390-F0CC-41A4-99CA-BBAB7B96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688A-B1C2-4BCB-9965-ED45938F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ECF-A233-4E2C-BB3B-DAE8FCE0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DA3-ECB4-4CB5-844D-8845FD6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334-DD7B-4DBA-AEAF-1FE2C76F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B53-8457-4C90-8D48-0D9D4B0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0F1-400E-447B-8842-7CFC5190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6C3-F66A-41CB-8383-78F5833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565-08E1-48D8-BF56-C6E4F98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B0FD-76D7-45C5-94BA-F2180E187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C37-E759-4EF9-B180-A612D182E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验八、中药鉴定混合粉末综合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混合粉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实验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混合样品的性状及显微鉴别要点，来判定样品中的药品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之前了解的中药的性状及显微鉴别要点，观察我们现有混合中药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老师所列出饮片及药材性状鉴别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实验原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鉴定是利用显微镜、显微技术及显微化学方法等对中药进行分析鉴定。通过不同的显微制片，观察中药的组织构造、细胞形状、后含物的特征，以鉴定中药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通过对混合药组织或粉末显微特征的系统观察和描述，确定其显微鉴别的主要特征。确定其中的药材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三、仪器、材料与试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材料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号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号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号混合粉末药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四、实验内容及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的粉末制片，观察并绘出粉末显微特征图（标注显微特征名称）。结论确定混合粉末中含有哪几种药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老师准备药材或饮片性状鉴别要点，写出中药材性状鉴别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实验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观察粉末制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粉末少许，</a:t>
            </a:r>
            <a:r>
              <a:rPr b="0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分别用水或稀甘油装片和水合氯醛溶液制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粉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粉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粉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720" y="3246480"/>
            <a:ext cx="12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粉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1:05:07Z</dcterms:created>
  <dc:creator>微软用户</dc:creator>
  <dc:description/>
  <dc:language>en-US</dc:language>
  <cp:lastModifiedBy>微软用户</cp:lastModifiedBy>
  <dcterms:modified xsi:type="dcterms:W3CDTF">2011-11-27T01:18:12Z</dcterms:modified>
  <cp:revision>6</cp:revision>
  <dc:subject/>
  <dc:title>幻灯片 1</dc:title>
</cp:coreProperties>
</file>