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A69-7ACD-4ECC-8981-88160B86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541-CBC2-4948-993D-E504D986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651-D081-41A1-BB09-5DA62D4E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E64-32EF-4CE7-B14F-E62AEA12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160A-5B2B-452A-8ACE-2BE3CD90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BA92-D770-4566-B6B2-2691B9E3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28C1-AAAE-4515-B61B-7B88FE53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7078-ACDF-4BBA-A531-5E86D1ED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263F-C881-4325-9B5C-77D874D1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6006-E28D-4102-AC3F-04EE9BCE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1CC2-0F4C-43A4-94B2-B3A41401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8E6-1042-44E3-B21E-335D2CD2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42D4-E074-4C5C-8F67-F21BCD1F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8002-49AB-42D1-A5E9-83DF03BD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EA69-813B-4057-A129-2D0BAB5A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DB20-D1C1-488D-BEF9-98027E33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C6B8-8D9B-445B-A025-E4C9DE01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7D01-60A0-46F6-8D2E-1BA85F57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FEF-4410-46EE-97CC-631BBBD7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0E3-4EFA-4703-9E79-DC87C914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A9D-8C67-475E-9578-E484748C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903-A744-472A-876C-AE51DC5A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E0DB-44DF-4607-9C62-9F4C6907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581-504E-4F98-B10B-5E7D4F2F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DED5-A546-4937-B7B9-2D779376A35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8FFC-83D4-41B6-8338-E2997376B3D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实验二、根及根茎类中药实验</a:t>
            </a: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单子叶植物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参考详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419720" y="45720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制作观察天麻、川贝的粉末制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取粉末少许，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别用水或稀甘油装片和水合氯醛溶液制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麻粉末：黄白色至黄棕色；观察厚壁细胞、草酸钙针晶束、糊化的多糖团块，绘特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天麻粉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绘图形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看见什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特征就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什么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37004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川贝粉末：类白色；观察淀粉粒、表皮细胞、螺纹导管，绘特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川贝粉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绘图形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看见什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特征就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什么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733920" y="533520"/>
            <a:ext cx="4805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山药、郁金、泽泻、知母、白及、百部、浙贝母、射干、石菖蒲、天冬药材及饮片性状鉴别要点，根据预习好的单子叶植物根茎类性状鉴别要点进行辨认，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进行随堂抽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预习作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单子叶植物根茎类中药性状鉴别要点（请于实验前详细地写在预习报告上，作为预习报告的一部分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掌握天麻、麦冬、川贝母的性状及显微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熟悉单子叶植物根及根茎类中药的性状及显微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山药、郁金、泽泻、知母、白及、百部、浙贝母、射干、石菖蒲、天冬药材及饮片性状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原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性状鉴定是用感官来观察供试品的形状、表面和断面特征，区别来源于双子叶、单子叶或蕨类植物的根及根茎类药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通过对单味药性状的系统观察和描述，确定其性状鉴别的主要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原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显微鉴定是利用显微镜、显微技术及显微化学方法等对中药进行分析鉴定。通过不同的显微制片，观察中药的组织构造、细胞形状、后含物的特征，以鉴定中药的品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通过对单味药组织或粉末显微特征的系统观察和描述，确定其显微鉴别的主要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仪器、材料与试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仪器——生物显微镜、镊子、载玻片、盖玻片、酒精灯，放大镜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材料——实验用药材及饮片；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麻、麦冬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横切面永久制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试剂——水合氯醛试液、稀甘油试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内容及要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天麻、麦冬的原药材及其横切面永久制片，并绘出天麻、麦冬的显微鉴别横切面简图及详图（标注各部分结构名称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制作天麻、川贝母的粉末制片，观察并绘出粉末显微特征图（标注显微特征名称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山药、郁金、泽泻、知母、白及、百部、浙贝母、射干、石菖蒲、天冬药材或饮片性状鉴别要点，写出单子叶植物根茎类性状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步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麻、麦冬横切面永久制片观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取永久切片，在低倍镜下由外向内依次观察，后含物的特征可在高倍镜下观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麻块茎横切面：观察表皮、皮层、维管束、薄壁细胞后含物及草酸钙针晶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828800" y="2895480"/>
            <a:ext cx="5410080" cy="3711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38080" y="20574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参考简图（也可参考课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麦冬块根横切面：观察表皮、根被、皮层、含有草酸钙针晶束的黏液细胞、内皮层细胞（通道细胞）、内皮层外侧石细胞、韧皮部、木质部、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4:27:51Z</dcterms:created>
  <dc:creator>sony</dc:creator>
  <dc:description/>
  <dc:language>en-US</dc:language>
  <cp:lastModifiedBy>微软用户</cp:lastModifiedBy>
  <dcterms:modified xsi:type="dcterms:W3CDTF">2011-11-28T00:37:56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