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B6C-809A-4DF4-8BBB-319EA44F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C5F-E3D2-4116-BB6C-C10420DA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CBF-3E57-4257-8C80-1A856850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E2C-9401-45D2-9AFE-25A3AE0A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D723-C396-4580-A3F5-0C0B062F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4FA4-0058-4374-BA1C-6AD74EA5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31ED-A650-49BD-9668-29035895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B4CE-CDDC-4A69-8B92-7EDEBB3F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9348-5693-43A6-8E71-AB013CD0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6179-626E-4626-972D-4A105C32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6A78-1C27-4713-9182-F23E9B57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D92-7475-4642-8437-0FC362E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21BC-EA6D-4A9B-BD79-AB09B64B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821E-760A-45A2-A029-6F8E0F4E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E0E6-8058-455F-BE37-FA87C27C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7FB-76DD-484A-8510-012E64B5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A63F-C9CF-455C-BF0F-ACF9FBDA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94C-B898-4373-ADC0-F8838467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E94-08DC-43E4-9357-9CF2F52D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2B7-97F7-48AB-BCD4-B2067755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8DF-6C71-4822-8087-EEB8DEEC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CAC-8166-46E3-A933-0FA0821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661-72E5-4908-9A96-3A1C1ED5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840-99F4-4036-992B-A1EB874D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AED2-FE4A-4820-B182-8137CAE169C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1C71-6A23-4160-9695-B74FBF9D4DE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实验一、根及根茎类中药实验</a:t>
            </a: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双子叶及蕨类植物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⑷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人参根茎横切片：观察木栓层、皮层、，绘简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人参（绘简图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8862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⑸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牛膝根横切片：观察木栓层、皮层、异型维管束（多轮性同心环维管束）及正常维管束、薄壁细胞中的草酸钙砂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观察黄连、甘草的粉末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粉末少许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别用水或稀甘油装片和水合氯醛溶液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连粉末：深棕黄色；观察石细胞、韧皮纤维、木纤维、木薄壁细胞、导管、淀粉粒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黄连粉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绘图形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看见什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特征就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什么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410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甘草粉末：黄棕色；观察晶纤维、导管、木栓细胞、淀粉粒棕色块状物，绘特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甘草粉末（绘图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绘图形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看见什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特征就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什么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葛根、苦参、前胡、地黄、天花粉、白芍、白术、板蓝根、狗脊、甘草、当归、川芎、防风、黄芩药材或饮片性状鉴别要点，根据预习好的双子叶植物、蕨类植物根茎类性状鉴别要点进行辨认，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进行随堂抽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预习作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双子叶植物、蕨类植物根茎类中药性状鉴别要点（请于实验前详细地写在预习报告上，作为预习报告的一部分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绵马贯众、大黄、人参、牛膝、黄连、甘草的性状及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悉蕨类、双子叶植物根及根茎类中药的性状及显微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葛根、苦参、前胡、地黄、天花粉、白芍、白芷、板蓝根、狗脊、虎杖、当归、川芎、防风、黄芩、续断、山豆根、漏芦、贯众、赤芍药材及饮片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性状鉴定是用感官来观察供试品的形状、表面和断面特征，区别来源于双子叶、单子叶或蕨类植物的根及根茎类药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性状的系统观察和描述，确定其性状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显微鉴定是利用显微镜、显微技术及显微化学方法等对中药进行分析鉴定。通过不同的显微制片，观察中药的组织构造、细胞形状、后含物的特征，以鉴定中药的品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通过对单味药组织或粉末显微特征的系统观察和描述，确定其显微鉴别的主要特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仪器、材料与试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仪器——生物显微镜、镊子、载玻片、盖玻片、酒精灯，放大镜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材料——实验用药材及饮片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绵马贯众、大黄、何首乌、牛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横切面永久制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试剂——水合氯醛试液、稀甘油试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内容及要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绵马贯众、大黄、人参、牛膝的原药材及其横切面永久制片，并绘出大黄、人参、牛膝的显微鉴别横切面简图（标注各部分结构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作黄连、甘草的粉末制片，观察并绘出粉末显微特征图（标注显微特征名称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葛根、苦参、前胡、地黄、天花粉、白芍、白术、板蓝根、狗脊、甘草、当归、川芎、防风、黄芩药材或饮片性状鉴别要点，预习双子叶植物、蕨类植物根茎类性状鉴别要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实验步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绵马贯众、大黄、何首乌、牛膝横切面永久制片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永久切片，在低倍镜下由外向内依次观察，后含物的特征可在高倍镜下观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绵马贯众叶柄横切片：观察表皮细胞、分体中柱的数目和排列方式，薄壁细胞中的后含物、细胞间隙腺毛，比对绵马贯众与荚果蕨贯众分体中柱的形态上的区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绵马贯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76560" cy="2523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3520" y="2971800"/>
            <a:ext cx="4405320" cy="3024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2133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主要显微特征：圆形分体中柱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，周韧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大黄根茎横切片：观察木栓层、皮层、正常及异型维管束、髓、薄壁细胞中的淀粉粒及草酸钙簇晶，绘简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2:32:16Z</dcterms:created>
  <dc:creator>sony</dc:creator>
  <dc:description/>
  <dc:language>en-US</dc:language>
  <cp:lastModifiedBy>微软用户</cp:lastModifiedBy>
  <dcterms:modified xsi:type="dcterms:W3CDTF">2011-11-28T00:37:40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