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212-97E8-406E-9409-048ED638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FB3-7444-4B18-85D4-0ADED028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686-2A9E-4BD7-A63B-1163EB1D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508-2343-4C9B-B72D-D25F0218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FD33-EC58-4182-B57F-3AF7B05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BF7-0521-41AC-BE93-7FB5277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21D0-D390-4177-BC94-863332F1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441-9738-482F-BA3B-6A43EEB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13D-A009-4D16-9230-DC53E1BB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3E0-8E78-4A01-852B-BE99DD3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8F17-ACC1-499F-ADC5-0CF0D1A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BED-42FD-49A7-8415-8DE6A110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2A2F-3D08-4814-830F-0786E75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D709-3A00-4706-B028-15626D61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054-796E-4DFD-97BD-B442CBAE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ABF-F868-4797-B314-45FBBB6C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717B-0B6E-437E-B072-4E5845F7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D00-6AFE-44C1-892E-D120B1C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5DF-671F-4F0F-8771-C84F60AB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F4B-4DA5-49A3-A08E-73D0F48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E17-2A30-4E9A-AD5C-72D534E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6F3-0D0F-4FFC-9256-17E7B73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525-344C-48A0-8A44-B8EEF0DB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E41-69F0-4090-9376-1475C02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FE4-D928-4799-8D65-BC96A83EA9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777-7F24-484D-AAFC-824747A0B95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三、茎木类、皮类中药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参考图（也可参考课本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观察黄柏、木通的粉末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粉末少许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水合氯醛溶液装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柏粉末：黄色；观察石细胞、晶鞘纤维、黏液细胞、导管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黄柏粉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木通粉末：淡褐色；观察含晶栓内层细胞、含晶石细胞、含晶纤维、小棱晶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木通粉末（绘图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钩藤、桂枝、合欢皮、厚朴、牡丹皮、秦皮、忍冬藤、桑白皮、苏木药材或饮片性状鉴别要点，根据预习好的茎木类、皮类植物根茎类中药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茎木类、皮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肉桂、鸡血藤、黄柏、木通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茎木类、皮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钩藤、桂枝、合欢皮、厚朴、牡丹皮、秦皮、忍冬藤、桑白皮、苏木药材及饮片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鸡血藤、肉桂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鸡血藤、肉桂的原药材及其横切面永久制片，并绘出鸡血藤、肉桂的显微鉴别横切面简图（标注各部分结构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黄柏、木通的粉末制片，观察并绘出粉末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钩藤、桂枝、合欢皮、厚朴、牡丹皮、秦皮、忍冬藤、桑白皮、苏木，写出茎木类、皮类植物根茎类中药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桂、鸡血藤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桂树皮横切片：观察木栓层细胞、皮层（散有石细胞、油细胞）、韧皮部（占整个肉桂皮的二分之一）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肉桂（绘简图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主要显微鉴别特征：木栓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4191120"/>
            <a:ext cx="914400" cy="914400"/>
          </a:xfrm>
          <a:prstGeom prst="borderCallout1">
            <a:avLst>
              <a:gd name="adj1" fmla="val -109800"/>
              <a:gd name="adj2" fmla="val -1800"/>
              <a:gd name="adj3" fmla="val 18900"/>
              <a:gd name="adj4" fmla="val -1800"/>
            </a:avLst>
          </a:prstGeom>
          <a:solidFill>
            <a:srgbClr val="00e4a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黑体"/>
              </a:rPr>
              <a:t>最内层细胞，壁特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971800"/>
            <a:ext cx="76320" cy="1752480"/>
          </a:xfrm>
          <a:custGeom>
            <a:avLst/>
            <a:gdLst>
              <a:gd name="textAreaLeft" fmla="*/ 0 w 76320"/>
              <a:gd name="textAreaRight" fmla="*/ 2736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木栓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800600"/>
            <a:ext cx="76320" cy="2057400"/>
          </a:xfrm>
          <a:custGeom>
            <a:avLst/>
            <a:gdLst>
              <a:gd name="textAreaLeft" fmla="*/ 0 w 76320"/>
              <a:gd name="textAreaRight" fmla="*/ 2736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638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皮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参考图（也可参考课本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鸡血藤藤茎横切片：观察木栓层、皮层、韧皮部、木质部、髓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1-28T00:38:27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